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EBE8E-5FFD-4698-AD07-763E1C7B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71ED-D847-43DF-9BCC-C718075E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599EC-09EE-497C-9DCF-53C8DB5B8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5A212-CDA5-416A-9754-6ACB4D623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AE169-74A0-43F1-A366-96043917E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E5464-0CCE-4BBC-9BD0-ADDE70B40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76E03-33E6-4E12-A900-16ED5471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CDD5F-DBB6-4669-9582-A19D501BA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41C02-DD06-488A-B60B-826C8DEE1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3BE11-BCF8-4C2D-8FD7-374C87C40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1B56B-799A-4D50-A682-1BD9241F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E397-3DEC-4F9A-94B8-CB46757C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E076C-61A0-43F9-ABB6-C57109C9E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7B65-0922-44BF-8190-9AEBE4A0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BD567-B823-4719-835F-B24C5DE36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80C88-ADC6-4A85-AF3F-3F7DA3BB1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0A03A-E6D1-4143-A5A8-7C673447F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091605-2F88-49B7-831D-453D96BDB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71A60-AF65-45C3-A269-6083C0657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3EC1A-4E25-40E4-87C3-913AB9DED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772E0-6377-4C59-A7FB-4588DE800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146F3-663D-4803-AE24-414AF54A1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B580-6CC1-4DBB-AEC9-D06315F4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F6461-0B80-403F-8BAB-B4E67FAE5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F2735-1E3B-4068-A922-A81FCD90F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1B555-1525-4A53-A91C-DEBC762BC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D5783-4787-44DA-A9E0-DB398C9F3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C63DB-AD76-4263-8A49-FEDABDD07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515682-73D0-4ABE-8AFD-C97E67492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4E751-9E80-491B-A194-071701F23E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186163-4918-4B5D-8DB9-4D9C1FE3FA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6B8F2-3E89-49AD-9589-F29EBA56B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34799-39A1-45EE-A28D-C24A8A458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F0479-6489-4ADE-AEEC-478BD974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5E78D-1053-46D9-864B-D3539E78D8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E6727-2C80-45AF-8DEF-031B258DC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63296-864A-4D10-93F4-608820FA5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395E0-D18A-4652-8949-055E04DB4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89392-4087-43C6-9C83-96CD2D0CB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57CCE-BE38-4A3D-AF90-6300991B6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F1DFB-9408-4A6D-BF94-FE832AAADB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CC5CAB-109E-4C57-B7D0-23D08F8D7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00D612-CEFD-4C92-A7AC-B83AFD5A3C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71041-BC6D-4104-BEC9-BE2FF3F59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2E5D-41C2-4E6B-9F8F-860C21F13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41BD-EFCF-481A-A414-DDFC0B856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3816-783E-44F4-AAD6-C19FE2F95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B056-49CE-4C1E-BDBD-80DD58704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D9B4-A045-4E2B-92CD-5445A01C63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E36D-E9E0-4B0A-B327-23BC62EB5BB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53A5-54DA-47E0-BCBF-AA2595299E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E365-05F4-4C7E-83B1-422C2F032392}"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货运事故索赔的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各类运输货运索赔流程</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索赔函</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索赔单证的整理</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处理各类运输中产生的货运纠纷</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单证</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申请书或索赔清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一旦正式向承运人递交索赔申请书或索赔清单，则意味着索赔方正式提出了索赔要求。因此，如果索赔方仅仅提出货损通知，而没有出具作为举证手段的货运单证和向承运人</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递交索赔申请书、索赔清单，事实上可解释为索赔方并没有提出正式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单既是货物收据、交货凭证，又是确定承运人与收货人之间责任的最终证明，是收货人提出索赔依据的主要单证。</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过驳清单或卸货报告、货物残损单和货物溢短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重理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理单是对货物件数或其他有疑向时，承运人要求复在而做的单证，是复查结果的证明文件。提出索赔时使用的其他单证还有货物发票、修理单、装箱单、拆箱单等。</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权益转让</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常由收货人向承运人提出索赔，但也有收货人根据提货单或保险合同，直接向保险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收货人从保险人那得到赔偿后，签署一份权益转让书，将向承运人提出的索赔保险人，保险人凭以向承运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担保与扣船</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货损由承运人的过失所造成，责任已明确，证据也充分，且损害金额较大。为了保证索赔得以顺利了结、可在船舶离港前采取保全措施，要求船方提供担保。这种担保分现金担保、银行担保担保函。</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金担保由承运人或船东保赔协会汇给索赔人一定数额的现金作担保，以后的家赔款项可在保证金内支付。</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担保和担保函都是书面担保形式，前者由银行出措施，后者由船东保赔协会出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的受理与审核</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一 </a:t>
            </a:r>
            <a:r>
              <a:rPr b="0" lang="zh-CN" sz="2800" spc="-1" strike="noStrike">
                <a:solidFill>
                  <a:srgbClr val="0033cc"/>
                </a:solidFill>
                <a:latin typeface="Arial"/>
              </a:rPr>
              <a:t>)</a:t>
            </a:r>
            <a:r>
              <a:rPr b="0" lang="zh-CN" sz="2800" spc="-1" strike="noStrike">
                <a:solidFill>
                  <a:srgbClr val="0033cc"/>
                </a:solidFill>
                <a:latin typeface="Arial"/>
              </a:rPr>
              <a:t>分清责任</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承运人在处理索赔时，首先应分清发生货损的原因和应承担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则上，受损方要想获得赔偿，必须予以举证，而责任方希望免除责任、减少责任，则必须予以反举证和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举证是分清货损责任的重要手段，有时在一个案件中会多次进行，直到最终确定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7960" y="624960"/>
            <a:ext cx="8607600" cy="52419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二 </a:t>
            </a:r>
            <a:r>
              <a:rPr b="0" lang="zh-CN" sz="2800" spc="-1" strike="noStrike">
                <a:solidFill>
                  <a:srgbClr val="0033cc"/>
                </a:solidFill>
                <a:latin typeface="Arial"/>
              </a:rPr>
              <a:t>)</a:t>
            </a:r>
            <a:r>
              <a:rPr b="0" lang="zh-CN" sz="2800" spc="-1" strike="noStrike">
                <a:solidFill>
                  <a:srgbClr val="0033cc"/>
                </a:solidFill>
                <a:latin typeface="Arial"/>
              </a:rPr>
              <a:t>审 核</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从事理赔工作时主要审核的内容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的提出是否在规定的期限内，如果期限已过，提赔人是否已要求展期</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出索赔所出具的单证是否齐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单证之间有关内容是否相符，如船名、航次、提单号、货号、品种、检验日期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货损是否发生在承运人的责任期限内</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船方有无海事声明或海事报告</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船方是否已在有关单证上签字确认</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装卸港的理货数量是否准确</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55240" y="745920"/>
            <a:ext cx="8589960" cy="5121000"/>
          </a:xfrm>
          <a:prstGeom prst="rect">
            <a:avLst/>
          </a:prstGeom>
          <a:noFill/>
          <a:ln w="0">
            <a:noFill/>
          </a:ln>
        </p:spPr>
        <p:txBody>
          <a:bodyPr lIns="90000" rIns="90000" tIns="46800" bIns="46800"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三</a:t>
            </a:r>
            <a:r>
              <a:rPr b="0" lang="zh-CN" sz="2800" spc="-1" strike="noStrike">
                <a:solidFill>
                  <a:srgbClr val="0033cc"/>
                </a:solidFill>
                <a:latin typeface="Arial"/>
              </a:rPr>
              <a:t>)</a:t>
            </a:r>
            <a:r>
              <a:rPr b="0" lang="zh-CN" sz="2800" spc="-1" strike="noStrike">
                <a:solidFill>
                  <a:srgbClr val="0033cc"/>
                </a:solidFill>
                <a:latin typeface="Arial"/>
              </a:rPr>
              <a:t>承运人免责或减少责任应出具的主要单证</a:t>
            </a:r>
            <a:endParaRPr b="0" lang="en-US" sz="28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运人对所发生的货损欲解除责任，或意图证明自己并无过失行为，则应出具有关单证对所发生的货损不承担或少承担责任。除前述的收货单、理货计数单、货物滥短单、货物残损单、过驳清单等货运单证外</a:t>
            </a:r>
            <a:r>
              <a:rPr b="0" lang="zh-CN" sz="2400" spc="-1" strike="noStrike">
                <a:solidFill>
                  <a:srgbClr val="000000"/>
                </a:solidFill>
                <a:latin typeface="Arial"/>
              </a:rPr>
              <a:t>,</a:t>
            </a:r>
            <a:r>
              <a:rPr b="0" lang="zh-CN" sz="2400" spc="-1" strike="noStrike">
                <a:solidFill>
                  <a:srgbClr val="000000"/>
                </a:solidFill>
                <a:latin typeface="Arial"/>
              </a:rPr>
              <a:t>承运人还应提供</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积载检验报告</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舱口检验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海事声明或海事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卸货事故报告</a:t>
            </a:r>
            <a:endParaRPr b="0" lang="en-US" sz="2400" spc="-1" strike="noStrike">
              <a:solidFill>
                <a:srgbClr val="0033cc"/>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索赔金的支付</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铁路货运事故处理</a:t>
            </a:r>
            <a:endParaRPr b="0" lang="en-US" sz="4400" spc="-1" strike="noStrike">
              <a:solidFill>
                <a:srgbClr val="007572"/>
              </a:solidFill>
              <a:latin typeface="Arial"/>
            </a:endParaRPr>
          </a:p>
        </p:txBody>
      </p:sp>
      <p:sp>
        <p:nvSpPr>
          <p:cNvPr id="184"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记录编制</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务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通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技术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确定事故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赔偿请求的提出与受理</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索赔的依据及有关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一旦货物发生全部天失，由发货人提出赔偿时，发货人应出具运单副本，如由收货人员出赔偿时，则应同时出具运单和运单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物发生部分灭失或质变、毁损时，收货人，发货人均可提出索赔，同时应出县运单以及铁路到达站给收货人的商务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货物发生运输延误时，应由收货人提出赔偿，并提交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对于承运人多收运送费用的情况，发货人可按其已付的款额向承运人追回多收部分的费用。但同时应出县运单副本或铁路规定的其他有关文件。如由收货人提出追回多收费用的要求，则应根据其支付的运费为基础，同时还需出具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索赔请求时效</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四 公路货运事故处理</a:t>
            </a:r>
            <a:endParaRPr b="0" lang="en-US" sz="4400" spc="-1" strike="noStrike">
              <a:solidFill>
                <a:srgbClr val="007572"/>
              </a:solidFill>
              <a:latin typeface="Arial"/>
            </a:endParaRPr>
          </a:p>
        </p:txBody>
      </p:sp>
      <p:sp>
        <p:nvSpPr>
          <p:cNvPr id="187"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责任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损</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损是指货物磨损、破裂、湿损、变形、污损、腐烂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差是指货物发生短少、失落、错装、错卸、交接差错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有货无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存在而运单及其他票据未能随货同行或已遗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运输过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误装、误卸，办理承运手续过程中的过失，或漏装、过失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运输延误</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已接受承运的货物由于始发站未及时运出，或中途发生变故等原因，致使货物未能如期到达</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货损事故记录的编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事故发生后，由发现事故的运送站或就近站前往现场编制商务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发现货物被盗，应尽可能保持现场，并由负责记录的业务人员或司机根据发现的情况公同有关人员做好现场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对于在运输途中发生的货运事故，司机或押运人应将事故发生的实际情况如实报告车站，并会同当地有关人员提供足够的证明，由车站编制一式三份的商务事故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如货损事故发生于货物到达站，则应根据当时情况，会同司机、业务人员、装卸人员编制商务记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职业素养与货运质量的关系</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货运代理从业人员的工匠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货物运输事故理赔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索赔对象的确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货损事故的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向货物的发站或到站提出赔偿申请书</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提出赔偿申请的人必须持有有关票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在得到责任方给予赔偿的签章后，赔偿申请人还应填写“赔偿要求书”，连同有关货物的价格票证，如发票、保单、货物清单等，送交责任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五 空运货运事故处理</a:t>
            </a:r>
            <a:endParaRPr b="0" lang="en-US" sz="4400" spc="-1" strike="noStrike">
              <a:solidFill>
                <a:srgbClr val="007572"/>
              </a:solidFill>
              <a:latin typeface="Arial"/>
            </a:endParaRPr>
          </a:p>
        </p:txBody>
      </p:sp>
      <p:sp>
        <p:nvSpPr>
          <p:cNvPr id="191"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索赔有关法律依据</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航空国际货运中，主要的法律依据是华沙体制中的《华沙公约</a:t>
            </a:r>
            <a:r>
              <a:rPr b="0" lang="zh-CN" sz="2400" spc="-1" strike="noStrike">
                <a:solidFill>
                  <a:srgbClr val="000000"/>
                </a:solidFill>
                <a:latin typeface="Arial"/>
              </a:rPr>
              <a:t>)</a:t>
            </a:r>
            <a:r>
              <a:rPr b="0" lang="zh-CN" sz="2400" spc="-1" strike="noStrike">
                <a:solidFill>
                  <a:srgbClr val="000000"/>
                </a:solidFill>
                <a:latin typeface="Arial"/>
              </a:rPr>
              <a:t>和《海牙议定书</a:t>
            </a:r>
            <a:r>
              <a:rPr b="0" lang="zh-CN" sz="2400" spc="-1" strike="noStrike">
                <a:solidFill>
                  <a:srgbClr val="000000"/>
                </a:solidFill>
                <a:latin typeface="Arial"/>
              </a:rPr>
              <a:t>);</a:t>
            </a:r>
            <a:r>
              <a:rPr b="0" lang="zh-CN" sz="2400" spc="-1" strike="noStrike">
                <a:solidFill>
                  <a:srgbClr val="000000"/>
                </a:solidFill>
                <a:latin typeface="Arial"/>
              </a:rPr>
              <a:t>在国内货物运输中，主要是《中华人民共和国民用航空法》、《中国民用航空货物国内运输规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家法律和规定《中华人民共和国民事诉讼法》</a:t>
            </a:r>
            <a:r>
              <a:rPr b="0" lang="zh-CN" sz="2400" spc="-1" strike="noStrike">
                <a:solidFill>
                  <a:srgbClr val="000000"/>
                </a:solidFill>
                <a:latin typeface="Arial"/>
              </a:rPr>
              <a:t>;</a:t>
            </a:r>
            <a:r>
              <a:rPr b="0" lang="zh-CN" sz="2400" spc="-1" strike="noStrike">
                <a:solidFill>
                  <a:srgbClr val="000000"/>
                </a:solidFill>
                <a:latin typeface="Arial"/>
              </a:rPr>
              <a:t>《中华人民共和国民法通则》；《中华人民共和国商品检验法》《中华人民共和国动植物检验法》；《中华人民共和国濒危动物保护法》</a:t>
            </a:r>
            <a:r>
              <a:rPr b="0" lang="zh-CN" sz="2400" spc="-1" strike="noStrike">
                <a:solidFill>
                  <a:srgbClr val="000000"/>
                </a:solidFill>
                <a:latin typeface="Arial"/>
              </a:rPr>
              <a:t>:</a:t>
            </a:r>
            <a:r>
              <a:rPr b="0" lang="zh-CN" sz="2400" spc="-1" strike="noStrike">
                <a:solidFill>
                  <a:srgbClr val="000000"/>
                </a:solidFill>
                <a:latin typeface="Arial"/>
              </a:rPr>
              <a:t>《中华人民共和国消费者权益法》《中国民航局政府令》《中国民航航空货运管理规则》；本国适用的有利于消费者的法律和法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人</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运单上列明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持有货运单上托运人或收货人签署的权益转让书的人员。</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托运人、收货人是指主运单上填写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如果收货人在到达站已将货物提取，则托运人将无权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地点和时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一</a:t>
            </a:r>
            <a:r>
              <a:rPr b="0" lang="zh-CN" sz="2400" spc="-1" strike="noStrike">
                <a:solidFill>
                  <a:srgbClr val="0033cc"/>
                </a:solidFill>
                <a:latin typeface="Arial"/>
              </a:rPr>
              <a:t>)</a:t>
            </a:r>
            <a:r>
              <a:rPr b="0" lang="zh-CN" sz="2400" spc="-1" strike="noStrike">
                <a:solidFill>
                  <a:srgbClr val="0033cc"/>
                </a:solidFill>
                <a:latin typeface="Arial"/>
              </a:rPr>
              <a:t>索赔的地点</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0000"/>
                </a:solidFill>
                <a:latin typeface="Arial"/>
              </a:rPr>
              <a:t>托运人、收货人或其代理在货物的始发站、目的站或损失事故发生的中间站，可以书面的形式向承运人</a:t>
            </a:r>
            <a:r>
              <a:rPr b="0" lang="zh-CN" sz="2400" spc="-1" strike="noStrike">
                <a:solidFill>
                  <a:srgbClr val="000000"/>
                </a:solidFill>
                <a:latin typeface="Arial"/>
              </a:rPr>
              <a:t>(</a:t>
            </a:r>
            <a:r>
              <a:rPr b="0" lang="zh-CN" sz="2400" spc="-1" strike="noStrike">
                <a:solidFill>
                  <a:srgbClr val="000000"/>
                </a:solidFill>
                <a:latin typeface="Arial"/>
              </a:rPr>
              <a:t>第一承运人或最后承运人或当事承运人</a:t>
            </a:r>
            <a:r>
              <a:rPr b="0" lang="zh-CN" sz="2400" spc="-1" strike="noStrike">
                <a:solidFill>
                  <a:srgbClr val="000000"/>
                </a:solidFill>
                <a:latin typeface="Arial"/>
              </a:rPr>
              <a:t>)</a:t>
            </a:r>
            <a:r>
              <a:rPr b="0" lang="zh-CN" sz="2400" spc="-1" strike="noStrike">
                <a:solidFill>
                  <a:srgbClr val="000000"/>
                </a:solidFill>
                <a:latin typeface="Arial"/>
              </a:rPr>
              <a:t>或其代理人提出索赔要求。</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二</a:t>
            </a:r>
            <a:r>
              <a:rPr b="0" lang="zh-CN" sz="2400" spc="-1" strike="noStrike">
                <a:solidFill>
                  <a:srgbClr val="0033cc"/>
                </a:solidFill>
                <a:latin typeface="Arial"/>
              </a:rPr>
              <a:t>)</a:t>
            </a:r>
            <a:r>
              <a:rPr b="0" lang="zh-CN" sz="2400" spc="-1" strike="noStrike">
                <a:solidFill>
                  <a:srgbClr val="0033cc"/>
                </a:solidFill>
                <a:latin typeface="Arial"/>
              </a:rPr>
              <a:t>提出赔偿要求的时限</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损坏</a:t>
            </a:r>
            <a:r>
              <a:rPr b="0" lang="zh-CN" sz="2400" spc="-1" strike="noStrike">
                <a:solidFill>
                  <a:srgbClr val="000000"/>
                </a:solidFill>
                <a:latin typeface="Arial"/>
              </a:rPr>
              <a:t>(</a:t>
            </a:r>
            <a:r>
              <a:rPr b="0" lang="zh-CN" sz="2400" spc="-1" strike="noStrike">
                <a:solidFill>
                  <a:srgbClr val="000000"/>
                </a:solidFill>
                <a:latin typeface="Arial"/>
              </a:rPr>
              <a:t>包括短缺</a:t>
            </a:r>
            <a:r>
              <a:rPr b="0" lang="zh-CN" sz="2400" spc="-1" strike="noStrike">
                <a:solidFill>
                  <a:srgbClr val="000000"/>
                </a:solidFill>
                <a:latin typeface="Arial"/>
              </a:rPr>
              <a:t>)</a:t>
            </a:r>
            <a:r>
              <a:rPr b="0" lang="zh-CN" sz="2400" spc="-1" strike="noStrike">
                <a:solidFill>
                  <a:srgbClr val="000000"/>
                </a:solidFill>
                <a:latin typeface="Arial"/>
              </a:rPr>
              <a:t>属于明显可见的赔偿要求，应从发现时起立即提出并最迟延至收到货物之日起</a:t>
            </a:r>
            <a:r>
              <a:rPr b="0" lang="zh-CN" sz="2400" spc="-1" strike="noStrike">
                <a:solidFill>
                  <a:srgbClr val="000000"/>
                </a:solidFill>
                <a:latin typeface="Arial"/>
              </a:rPr>
              <a:t>14 </a:t>
            </a:r>
            <a:r>
              <a:rPr b="0" lang="zh-CN" sz="2400" spc="-1" strike="noStrike">
                <a:solidFill>
                  <a:srgbClr val="000000"/>
                </a:solidFill>
                <a:latin typeface="Arial"/>
              </a:rPr>
              <a:t>天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运输延误的赔偿要求，在货物由收货人支配之日起</a:t>
            </a:r>
            <a:r>
              <a:rPr b="0" lang="zh-CN" sz="2400" spc="-1" strike="noStrike">
                <a:solidFill>
                  <a:srgbClr val="000000"/>
                </a:solidFill>
                <a:latin typeface="Arial"/>
              </a:rPr>
              <a:t>21</a:t>
            </a:r>
            <a:r>
              <a:rPr b="0" lang="zh-CN" sz="2400" spc="-1" strike="noStrike">
                <a:solidFill>
                  <a:srgbClr val="000000"/>
                </a:solidFill>
                <a:latin typeface="Arial"/>
              </a:rPr>
              <a:t>天内提出。货物毁灭或遗失要求，应自填货运单之日起</a:t>
            </a:r>
            <a:r>
              <a:rPr b="0" lang="zh-CN" sz="2400" spc="-1" strike="noStrike">
                <a:solidFill>
                  <a:srgbClr val="000000"/>
                </a:solidFill>
                <a:latin typeface="Arial"/>
              </a:rPr>
              <a:t>120 </a:t>
            </a:r>
            <a:r>
              <a:rPr b="0" lang="zh-CN" sz="2400" spc="-1" strike="noStrike">
                <a:solidFill>
                  <a:srgbClr val="000000"/>
                </a:solidFill>
                <a:latin typeface="Arial"/>
              </a:rPr>
              <a:t>天之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任何异议，均按上述规定期限，向承运人以书面形式提出。除承运人有欺诈行为外，有权提取货物的人如果在规定时限内没有提出异议，将丧失对承运人诉讼的权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于提出索赔的货物，货运单的法律诉讼时效为两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1"/>
          <p:cNvSpPr/>
          <p:nvPr/>
        </p:nvSpPr>
        <p:spPr>
          <a:xfrm>
            <a:off x="249120" y="603360"/>
            <a:ext cx="8596440" cy="45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索赔所需的文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索赔所需的文件包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正式索赔函两份</a:t>
            </a:r>
            <a:r>
              <a:rPr b="0" lang="zh-CN" sz="2400" spc="-1" strike="noStrike">
                <a:solidFill>
                  <a:srgbClr val="000000"/>
                </a:solidFill>
                <a:latin typeface="Arial"/>
              </a:rPr>
              <a:t>(</a:t>
            </a:r>
            <a:r>
              <a:rPr b="0" lang="zh-CN" sz="2400" spc="-1" strike="noStrike">
                <a:solidFill>
                  <a:srgbClr val="000000"/>
                </a:solidFill>
                <a:latin typeface="Arial"/>
              </a:rPr>
              <a:t>收货人</a:t>
            </a:r>
            <a:r>
              <a:rPr b="0" lang="zh-CN" sz="2400" spc="-1" strike="noStrike">
                <a:solidFill>
                  <a:srgbClr val="000000"/>
                </a:solidFill>
                <a:latin typeface="Arial"/>
              </a:rPr>
              <a:t>/</a:t>
            </a:r>
            <a:r>
              <a:rPr b="0" lang="zh-CN" sz="2400" spc="-1" strike="noStrike">
                <a:solidFill>
                  <a:srgbClr val="000000"/>
                </a:solidFill>
                <a:latin typeface="Arial"/>
              </a:rPr>
              <a:t>发货人向代理公司、代理公司向航空公司</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货运单正本或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货物商业发票、装箱清单和其他必要资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货物舱单</a:t>
            </a:r>
            <a:r>
              <a:rPr b="0" lang="zh-CN" sz="2400" spc="-1" strike="noStrike">
                <a:solidFill>
                  <a:srgbClr val="000000"/>
                </a:solidFill>
                <a:latin typeface="Arial"/>
              </a:rPr>
              <a:t>(</a:t>
            </a:r>
            <a:r>
              <a:rPr b="0" lang="zh-CN" sz="2400" spc="-1" strike="noStrike">
                <a:solidFill>
                  <a:srgbClr val="000000"/>
                </a:solidFill>
                <a:latin typeface="Arial"/>
              </a:rPr>
              <a:t>航空公司复印</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货物运榆事故签证</a:t>
            </a:r>
            <a:r>
              <a:rPr b="0" lang="zh-CN" sz="2400" spc="-1" strike="noStrike">
                <a:solidFill>
                  <a:srgbClr val="000000"/>
                </a:solidFill>
                <a:latin typeface="Arial"/>
              </a:rPr>
              <a:t>(</a:t>
            </a:r>
            <a:r>
              <a:rPr b="0" lang="zh-CN" sz="2400" spc="-1" strike="noStrike">
                <a:solidFill>
                  <a:srgbClr val="000000"/>
                </a:solidFill>
                <a:latin typeface="Arial"/>
              </a:rPr>
              <a:t>货物损失的客观、详细情况</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商检证明</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运输事故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来往邮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1"/>
          <p:cNvSpPr/>
          <p:nvPr/>
        </p:nvSpPr>
        <p:spPr>
          <a:xfrm>
            <a:off x="249120" y="603360"/>
            <a:ext cx="8407440" cy="10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赔偿规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承运人按照实际损失的价值进行赔偿，赔偿的最高限额为毛重每千克</a:t>
            </a:r>
            <a:r>
              <a:rPr b="0" lang="en-US" sz="2400" spc="-1" strike="noStrike">
                <a:solidFill>
                  <a:srgbClr val="000000"/>
                </a:solidFill>
                <a:latin typeface="Arial"/>
              </a:rPr>
              <a:t>20</a:t>
            </a:r>
            <a:r>
              <a:rPr b="0" lang="zh-CN" sz="2400" spc="-1" strike="noStrike">
                <a:solidFill>
                  <a:srgbClr val="000000"/>
                </a:solidFill>
                <a:latin typeface="Arial"/>
              </a:rPr>
              <a:t>美元，已向承运人办理货物声明价值，并付声明附加值，按声明价值赔偿。</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文本框 1"/>
          <p:cNvSpPr/>
          <p:nvPr/>
        </p:nvSpPr>
        <p:spPr>
          <a:xfrm>
            <a:off x="249120" y="603360"/>
            <a:ext cx="8407440" cy="36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程序</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一）货物运输事故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索赔申请书 </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航空公司审核所有的资料和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航空公司进一步调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填写航空货物索赔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货物索赔审批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责任解除协议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六 货运保险理赔</a:t>
            </a:r>
            <a:endParaRPr b="0" lang="en-US" sz="4400" spc="-1" strike="noStrike">
              <a:solidFill>
                <a:srgbClr val="007572"/>
              </a:solidFill>
              <a:latin typeface="Arial"/>
            </a:endParaRPr>
          </a:p>
        </p:txBody>
      </p:sp>
      <p:sp>
        <p:nvSpPr>
          <p:cNvPr id="198"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保险合同下的保险索赔</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损失通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向承运人等有关方提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采取合理的施救措施</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备妥必要的索赔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保险损害赔偿原则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保险人对保险标的必须具有保险权益</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保险合同内的标的必须具有损害发生的事实，且有因果关系</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经济上给予补偿</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同一标的不能重复投保。</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损害赔偿保险责任范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平安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水渍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一切险的责任范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索赔原则 </a:t>
            </a:r>
            <a:endParaRPr b="0" lang="en-US" sz="4000" spc="-1" strike="noStrike">
              <a:solidFill>
                <a:srgbClr val="007572"/>
              </a:solidFill>
              <a:latin typeface="Arial"/>
            </a:endParaRPr>
          </a:p>
        </p:txBody>
      </p:sp>
      <p:sp>
        <p:nvSpPr>
          <p:cNvPr id="16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索赔基本原则</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坚持实事求是，有根有据，合情合理，区别对待，讲究实效</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索赔对象的确定</a:t>
            </a:r>
            <a:endParaRPr b="0" lang="en-US" sz="32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是由于下列原因造成灭失或损坏：</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原装货物数量不足</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货物的品质与合同规定不符</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包装不牢致使货物受损</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未在合同规定的装运期内交货等，</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唛头不清。</a:t>
            </a:r>
            <a:endParaRPr b="0" lang="en-US" sz="28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收货人先有关部门、机构出县的鉴定证书向发货人</a:t>
            </a:r>
            <a:r>
              <a:rPr b="0" lang="zh-CN" sz="3200" spc="-1" strike="noStrike">
                <a:solidFill>
                  <a:srgbClr val="000000"/>
                </a:solidFill>
                <a:latin typeface="宋体"/>
              </a:rPr>
              <a:t>(</a:t>
            </a:r>
            <a:r>
              <a:rPr b="0" lang="zh-CN" sz="3200" spc="-1" strike="noStrike">
                <a:solidFill>
                  <a:srgbClr val="000000"/>
                </a:solidFill>
                <a:latin typeface="宋体"/>
              </a:rPr>
              <a:t>卖方</a:t>
            </a:r>
            <a:r>
              <a:rPr b="0" lang="zh-CN" sz="3200" spc="-1" strike="noStrike">
                <a:solidFill>
                  <a:srgbClr val="000000"/>
                </a:solidFill>
                <a:latin typeface="宋体"/>
              </a:rPr>
              <a:t>)</a:t>
            </a:r>
            <a:r>
              <a:rPr b="0" lang="zh-CN" sz="3200" spc="-1" strike="noStrike">
                <a:solidFill>
                  <a:srgbClr val="000000"/>
                </a:solidFill>
                <a:latin typeface="宋体"/>
              </a:rPr>
              <a:t>提出索赔。</a:t>
            </a:r>
            <a:endParaRPr b="0" lang="en-US" sz="32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250560" y="476280"/>
            <a:ext cx="8731080" cy="635328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的灭失或损害属于下列范围：</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在卸货港交付的货物数量少于提单中所中中所记载的货物数量</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收货人持有正本清洁提单提取货物时，货物发生残损、缺少，且系承运人的过失。</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货物的灭失或损害是由于承运人免责范围以外的责任所致等。</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上述情况则由收货人或其他有权提出专政动索赔的人凭有关部门、机构出县的塞定证书向承远人提出索赔。</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09160" y="259920"/>
            <a:ext cx="8636040" cy="5607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货物的灭失或损害属下列范围</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承保责任范围内，保险人应予赔偿的损失</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承保责任范围内，由于自然灾害或意外原因等事故使货物遗受损害。</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a:t>
            </a:r>
            <a:r>
              <a:rPr b="0" lang="zh-CN" sz="3200" spc="-1" strike="noStrike">
                <a:solidFill>
                  <a:srgbClr val="000000"/>
                </a:solidFill>
                <a:latin typeface="宋体"/>
              </a:rPr>
              <a:t>在保险人责任期限内。</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上述情况则由受损方凭有关证书、文件向保险公司提出索赔。</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1720" y="942840"/>
            <a:ext cx="8080560" cy="49723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论是哪一种原因发生的索赔案，也不管是向谁提出索赔，一项合理的索赔必须具备下列原则</a:t>
            </a:r>
            <a:r>
              <a:rPr b="0" lang="zh-CN" sz="2400" spc="-1" strike="noStrike">
                <a:solidFill>
                  <a:srgbClr val="000000"/>
                </a:solidFill>
                <a:latin typeface="宋体"/>
              </a:rPr>
              <a:t>:</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提赔人要有正当提赔权。</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责任方必须负有实际赔偿责任</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索赔时应具备的单证。</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货物残损单</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5</a:t>
            </a:r>
            <a:r>
              <a:rPr b="0" lang="zh-CN" sz="2400" spc="-1" strike="noStrike">
                <a:solidFill>
                  <a:srgbClr val="000000"/>
                </a:solidFill>
                <a:latin typeface="宋体"/>
              </a:rPr>
              <a:t>）在规定的期限内提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海运货损事故处理 </a:t>
            </a:r>
            <a:endParaRPr b="0" lang="en-US" sz="4000" spc="-1" strike="noStrike">
              <a:solidFill>
                <a:srgbClr val="007572"/>
              </a:solidFill>
              <a:latin typeface="Arial"/>
            </a:endParaRPr>
          </a:p>
        </p:txBody>
      </p:sp>
      <p:sp>
        <p:nvSpPr>
          <p:cNvPr id="17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海运货损事故的确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收货人提货时，如发现所提取的货物数量不足、外表状况或货物的品质与提单上记载的情况不符，则应根据提单条款的规定，将货物短缺或损坏的事实，以书面的形式通知承运人或承运人在卸港的代理人，以此表明提出索赔的要求。</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海运货损事故索赔或理赔中，提单、收货单、过驳清单、卸货报告、货物滥短单、装箱单、积载图等货运单证均可作为货损事故处理和明确责任方的依据，应妥善处理这些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程序</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上货运公约，如《海牙规则》、《维斯比规则》、《汉堡规则》，以及各船公司的提单条款，一般都规定货损事故发生后，根据运输合同或根据提单有权提货的人可向承运人或其代理的提出书面通知，声明保留索赔权。</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货人在收货时未提出了书面通知，以后也可以根据货运单证上的批注或检验人的检验证书，作为相反证据提出索赔。</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收货人再收货时提出书面通知，但在提出具体索赔时，也必须出原始凭证，证明其所收到的货物不是清洁提单上所记载的在外表良好状况下接受装船的货物。</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在提出书面索赔通知后，应尽快地备妥各种有关单证，然后向承运人或其代理人提出货损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46:16Z</dcterms:modified>
  <cp:revision>68</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