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187A-8848-4EC1-BEF5-5354D569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6C7-D69F-4DA2-839A-8243AFF4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4D87-99FB-4360-8F4E-4A9679F3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0C19-B2B6-4469-AEBD-DE5639FD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FA53-8859-4DED-B4FB-1D3B833D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BCC1-8689-4E2E-BFD3-20A6A527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4636-317F-463D-A972-069A7446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0691-E1CF-47EA-9AC1-AD0DD784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B2EB-1BBB-4556-AB8C-302CD200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6C3E-FF5C-4809-9487-A6A30225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F43E-C9FE-48D8-A74A-09E0E16B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9E50-DDD9-4609-9E67-CC72ECCE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46FC-626F-4610-9DB3-94074859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168F-62B2-477F-80DC-1E48DBF7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53F5-CDE3-48AF-8300-7ADCB371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A251-236F-4FE2-AC1E-44D06265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64FE-1D1B-402B-80EF-98AD385F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4C20-DE11-4A79-838E-0DF276BC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2BD9-5E50-462E-A46B-CBB9F821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85A3-2870-429D-82B5-2E1BEACC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6B84-4F32-400F-A2B6-5A3A38CA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14C4-DAE2-4749-9A90-D28ECB7B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8FCD-0487-484D-A0CB-E929E30E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7F6D-E57C-43E6-A907-98965F0F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36E9-EF91-4CE5-B798-D9893E82CA7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CEAF-DBE7-45FD-A8E8-8E3F8AF2736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五章  跨国公司经营战略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2)—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跨国并购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6666"/>
                </a:solidFill>
                <a:latin typeface="Arial"/>
              </a:rPr>
              <a:t>跨国并购的含义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6666"/>
                </a:solidFill>
                <a:latin typeface="Arial"/>
              </a:rPr>
              <a:t>类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6666"/>
                </a:solidFill>
                <a:latin typeface="Arial"/>
              </a:rPr>
              <a:t>跨国并购的趋势与特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6666"/>
                </a:solidFill>
                <a:latin typeface="Arial"/>
              </a:rPr>
              <a:t>跨国并购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6666"/>
                </a:solidFill>
                <a:latin typeface="Arial"/>
              </a:rPr>
              <a:t>跨国并购对东道国的经济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的充分与必要条件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购企业的并购行为决定于并购动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进入东道国市场的速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获得所有权资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战略资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寻求新市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通过协同效应提高效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5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扩大规模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6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多样化经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风险分散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7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个人动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高层管理者的个人利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购实施受影响于外部环境刺激因素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环境因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政策环境因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本市场环境因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对东道国的经济效应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838080" y="2362320"/>
          <a:ext cx="7693200" cy="3763800"/>
        </p:xfrm>
        <a:graphic>
          <a:graphicData uri="http://schemas.openxmlformats.org/drawingml/2006/table">
            <a:tbl>
              <a:tblPr/>
              <a:tblGrid>
                <a:gridCol w="997200"/>
                <a:gridCol w="2952720"/>
                <a:gridCol w="3743280"/>
              </a:tblGrid>
              <a:tr h="706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短期效应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长期效应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金融资源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DI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以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&amp;A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形式进入东道国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虽然带来金融资源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但不会增加东道国生产能力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伴随后续投资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增加东道国生产能力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没有理由相信会比”绿地投资”带来更新的技术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伴随后续投资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会带来先进的生产技术和经营管理方法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就业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不能指望立即增加就业量和提高就业水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能够增加就业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市场结构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可能增加行业集中度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抑制竞争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对市场结构的影响具有不确定性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的含义与类型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绿地投资与跨国并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绿地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Green Investment)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也称新建投资或创建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Cross-border Mergers &amp;Acquisitions)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指涉及两个以上国家或地区的企业间的合并和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国贸发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定义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外国企业与境内企业合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收购境内企业的股权达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0%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以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使境内企业的资产与经营的控制权转移到外国企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上述两种对外投资进入方式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9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后者占对外投资量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%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国贸发会跨国并购示意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 flipV="1">
            <a:off x="4932360" y="3933720"/>
            <a:ext cx="0" cy="790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Line 17"/>
          <p:cNvSpPr/>
          <p:nvPr/>
        </p:nvSpPr>
        <p:spPr>
          <a:xfrm>
            <a:off x="4932360" y="393372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Line 18"/>
          <p:cNvSpPr/>
          <p:nvPr/>
        </p:nvSpPr>
        <p:spPr>
          <a:xfrm>
            <a:off x="5292720" y="3933720"/>
            <a:ext cx="0" cy="790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4932360" y="472428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4860720" y="4005360"/>
            <a:ext cx="3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跨国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并购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Line 21"/>
          <p:cNvSpPr/>
          <p:nvPr/>
        </p:nvSpPr>
        <p:spPr>
          <a:xfrm>
            <a:off x="5292720" y="429264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22"/>
          <p:cNvSpPr/>
          <p:nvPr/>
        </p:nvSpPr>
        <p:spPr>
          <a:xfrm>
            <a:off x="5580000" y="3429000"/>
            <a:ext cx="0" cy="1944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23"/>
          <p:cNvSpPr/>
          <p:nvPr/>
        </p:nvSpPr>
        <p:spPr>
          <a:xfrm>
            <a:off x="5580000" y="350028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Line 24"/>
          <p:cNvSpPr/>
          <p:nvPr/>
        </p:nvSpPr>
        <p:spPr>
          <a:xfrm>
            <a:off x="5580000" y="537372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>
            <a:off x="5796000" y="3068640"/>
            <a:ext cx="0" cy="576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Line 26"/>
          <p:cNvSpPr/>
          <p:nvPr/>
        </p:nvSpPr>
        <p:spPr>
          <a:xfrm>
            <a:off x="5796000" y="3068640"/>
            <a:ext cx="100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Line 27"/>
          <p:cNvSpPr/>
          <p:nvPr/>
        </p:nvSpPr>
        <p:spPr>
          <a:xfrm>
            <a:off x="6804000" y="3068640"/>
            <a:ext cx="0" cy="576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Line 28"/>
          <p:cNvSpPr/>
          <p:nvPr/>
        </p:nvSpPr>
        <p:spPr>
          <a:xfrm>
            <a:off x="5796000" y="3645000"/>
            <a:ext cx="100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29"/>
          <p:cNvSpPr/>
          <p:nvPr/>
        </p:nvSpPr>
        <p:spPr>
          <a:xfrm>
            <a:off x="5867280" y="5084640"/>
            <a:ext cx="0" cy="576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30"/>
          <p:cNvSpPr/>
          <p:nvPr/>
        </p:nvSpPr>
        <p:spPr>
          <a:xfrm>
            <a:off x="5867280" y="5013360"/>
            <a:ext cx="10098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Line 31"/>
          <p:cNvSpPr/>
          <p:nvPr/>
        </p:nvSpPr>
        <p:spPr>
          <a:xfrm>
            <a:off x="5867280" y="5661000"/>
            <a:ext cx="936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32"/>
          <p:cNvSpPr/>
          <p:nvPr/>
        </p:nvSpPr>
        <p:spPr>
          <a:xfrm>
            <a:off x="6804000" y="5013360"/>
            <a:ext cx="0" cy="647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6104160" y="3146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兼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6032880" y="5091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收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35"/>
          <p:cNvSpPr/>
          <p:nvPr/>
        </p:nvSpPr>
        <p:spPr>
          <a:xfrm>
            <a:off x="6804000" y="335772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36"/>
          <p:cNvSpPr/>
          <p:nvPr/>
        </p:nvSpPr>
        <p:spPr>
          <a:xfrm>
            <a:off x="7093080" y="2852640"/>
            <a:ext cx="0" cy="1152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Line 37"/>
          <p:cNvSpPr/>
          <p:nvPr/>
        </p:nvSpPr>
        <p:spPr>
          <a:xfrm>
            <a:off x="7093080" y="299736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7553160" y="2800440"/>
            <a:ext cx="13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平等合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Line 39"/>
          <p:cNvSpPr/>
          <p:nvPr/>
        </p:nvSpPr>
        <p:spPr>
          <a:xfrm>
            <a:off x="7093080" y="386064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40"/>
          <p:cNvSpPr/>
          <p:nvPr/>
        </p:nvSpPr>
        <p:spPr>
          <a:xfrm>
            <a:off x="7544160" y="3578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法定合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Line 41"/>
          <p:cNvSpPr/>
          <p:nvPr/>
        </p:nvSpPr>
        <p:spPr>
          <a:xfrm>
            <a:off x="6804000" y="5300640"/>
            <a:ext cx="289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42"/>
          <p:cNvSpPr/>
          <p:nvPr/>
        </p:nvSpPr>
        <p:spPr>
          <a:xfrm>
            <a:off x="7093080" y="4724280"/>
            <a:ext cx="0" cy="1152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Line 43"/>
          <p:cNvSpPr/>
          <p:nvPr/>
        </p:nvSpPr>
        <p:spPr>
          <a:xfrm>
            <a:off x="7093080" y="472428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44"/>
          <p:cNvSpPr/>
          <p:nvPr/>
        </p:nvSpPr>
        <p:spPr>
          <a:xfrm>
            <a:off x="7610040" y="44416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收购外国子公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Line 45"/>
          <p:cNvSpPr/>
          <p:nvPr/>
        </p:nvSpPr>
        <p:spPr>
          <a:xfrm>
            <a:off x="7093080" y="580536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46"/>
          <p:cNvSpPr/>
          <p:nvPr/>
        </p:nvSpPr>
        <p:spPr>
          <a:xfrm>
            <a:off x="7452360" y="554976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收购一家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当地企业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公司并购的类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跨国并购的产业方向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横向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Horizontal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纵向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Vertical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混合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Conglomerate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产品扩张型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Product-extension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地域市场扩张型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Geographic Market-extension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纯粹混合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Pure Conglomerate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企业并购中企业法人变更情况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吸收兼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Consolidation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创立兼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Statutory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2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按照是否经由中介实施并购划分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直接并购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或称为协议收购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Negotiated Acquisition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、友好接管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riendly Takeover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。可以是并购企业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cquiring firms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发起，也可以是目标企业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argeting firms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发起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间接并购。委托投资银行或其他中介机构在市场上收购目标企业的股票，从而达到并购目的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按照跨国并购中的支付方式划分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股票互换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债券互换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现金收购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杠杆收购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Leverage Buyout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5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资产剥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Asset-stripping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，包括将子公司出售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分拆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Divestment)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股权分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Equity Carve-out)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管理层杠杆收购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Management Leverage Buyout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境内并购与跨国并购的区别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就跨国收购而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最终结果不改变公司法人数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而是改变目标企业的产权关系和治理结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就兼并而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最终改变公司法人数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不是”射手企业”消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就是”靶子企业”消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境内并购与跨国并购的诱发因素差异很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并购诱发因素涉及宏观上的资本跨国流动性、国家政策、市场结构等，微观上的进入障碍、货币可兑换性、企业当地化程度、资源可得性以及竞争环境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境内并购改变的是国内行业市场份额和集中程度，而跨国并购改变的是国际市场份额或国际市场势力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rket Powe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，对东道国或母国国内的市场结构影响较小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的趋势与特征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全球趋势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跨国并购成为对外直接投资的主要方式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单个并购的规模不断扩大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跨国收购在在跨国并购中占绝大部分比重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横向并购的比重不断增加，成为跨国并购的主流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股票互换在跨国并购的融资方式中比重越来越大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跨国并购的战略动机（寻求效率和经济收益）明显，善意收购成为主流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地区趋势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发达国家企业是跨国并购的主体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其中欧美公司是最活跃的参与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发展中国家企业在跨国并购中比重不大且非常不平衡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部门与行业趋势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第三产业比重增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第二产业比重下降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第一产业微不足道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横向并购活动密集行业的市场集中度正在加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如汽车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银行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制药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理论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跨国并购效率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并购收益权衡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D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购后企业产品成本降低幅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G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购后市场实力增强使价格提高幅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Y     OX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市场控制力提高使产量变化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BCD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并购收益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F=GAEF-GABF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产量减少损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BCD-BEF&gt;0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购净收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图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5219640" y="2923920"/>
            <a:ext cx="0" cy="2881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5219640" y="580536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Freeform 7"/>
          <p:cNvSpPr/>
          <p:nvPr/>
        </p:nvSpPr>
        <p:spPr>
          <a:xfrm>
            <a:off x="5702400" y="3137040"/>
            <a:ext cx="2031840" cy="1823760"/>
          </a:xfrm>
          <a:custGeom>
            <a:avLst/>
            <a:gdLst>
              <a:gd name="textAreaLeft" fmla="*/ 0 w 2031840"/>
              <a:gd name="textAreaRight" fmla="*/ 2032200 w 2031840"/>
              <a:gd name="textAreaTop" fmla="*/ 0 h 1823760"/>
              <a:gd name="textAreaBottom" fmla="*/ 1824120 h 1823760"/>
            </a:gdLst>
            <a:ahLst/>
            <a:rect l="textAreaLeft" t="textAreaTop" r="textAreaRight" b="textAreaBottom"/>
            <a:pathLst>
              <a:path w="1280" h="1149">
                <a:moveTo>
                  <a:pt x="0" y="0"/>
                </a:moveTo>
                <a:cubicBezTo>
                  <a:pt x="6" y="71"/>
                  <a:pt x="15" y="195"/>
                  <a:pt x="56" y="256"/>
                </a:cubicBezTo>
                <a:cubicBezTo>
                  <a:pt x="70" y="343"/>
                  <a:pt x="106" y="441"/>
                  <a:pt x="160" y="512"/>
                </a:cubicBezTo>
                <a:cubicBezTo>
                  <a:pt x="169" y="524"/>
                  <a:pt x="183" y="532"/>
                  <a:pt x="192" y="544"/>
                </a:cubicBezTo>
                <a:cubicBezTo>
                  <a:pt x="214" y="574"/>
                  <a:pt x="228" y="609"/>
                  <a:pt x="248" y="640"/>
                </a:cubicBezTo>
                <a:cubicBezTo>
                  <a:pt x="279" y="689"/>
                  <a:pt x="332" y="717"/>
                  <a:pt x="368" y="760"/>
                </a:cubicBezTo>
                <a:cubicBezTo>
                  <a:pt x="405" y="804"/>
                  <a:pt x="439" y="847"/>
                  <a:pt x="480" y="888"/>
                </a:cubicBezTo>
                <a:cubicBezTo>
                  <a:pt x="488" y="896"/>
                  <a:pt x="502" y="898"/>
                  <a:pt x="512" y="904"/>
                </a:cubicBezTo>
                <a:cubicBezTo>
                  <a:pt x="537" y="918"/>
                  <a:pt x="559" y="938"/>
                  <a:pt x="584" y="952"/>
                </a:cubicBezTo>
                <a:cubicBezTo>
                  <a:pt x="702" y="1016"/>
                  <a:pt x="570" y="925"/>
                  <a:pt x="736" y="1008"/>
                </a:cubicBezTo>
                <a:cubicBezTo>
                  <a:pt x="782" y="1031"/>
                  <a:pt x="824" y="1041"/>
                  <a:pt x="872" y="1056"/>
                </a:cubicBezTo>
                <a:cubicBezTo>
                  <a:pt x="934" y="1075"/>
                  <a:pt x="994" y="1099"/>
                  <a:pt x="1056" y="1120"/>
                </a:cubicBezTo>
                <a:cubicBezTo>
                  <a:pt x="1112" y="1139"/>
                  <a:pt x="1173" y="1132"/>
                  <a:pt x="1232" y="1136"/>
                </a:cubicBezTo>
                <a:cubicBezTo>
                  <a:pt x="1270" y="1145"/>
                  <a:pt x="1254" y="1149"/>
                  <a:pt x="1280" y="1136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5219640" y="4941720"/>
            <a:ext cx="2160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7451640" y="4941720"/>
            <a:ext cx="0" cy="935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5219640" y="5373720"/>
            <a:ext cx="2232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5219640" y="4653000"/>
            <a:ext cx="1513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659640" y="4653000"/>
            <a:ext cx="0" cy="1152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5292360" y="4941720"/>
            <a:ext cx="142920" cy="432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 flipH="1">
            <a:off x="5651640" y="5013360"/>
            <a:ext cx="72720" cy="28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 flipH="1">
            <a:off x="5940000" y="4941720"/>
            <a:ext cx="144360" cy="432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 flipH="1">
            <a:off x="6300360" y="4941720"/>
            <a:ext cx="142920" cy="432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 flipH="1">
            <a:off x="6732720" y="4724280"/>
            <a:ext cx="71280" cy="217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 flipH="1">
            <a:off x="6876720" y="4797360"/>
            <a:ext cx="14292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Line 21"/>
          <p:cNvSpPr/>
          <p:nvPr/>
        </p:nvSpPr>
        <p:spPr>
          <a:xfrm>
            <a:off x="7164360" y="4869000"/>
            <a:ext cx="0" cy="72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4842000" y="27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8081640" y="5608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4986360" y="474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6426360" y="4600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6642360" y="5248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4986720" y="5176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28"/>
          <p:cNvSpPr/>
          <p:nvPr/>
        </p:nvSpPr>
        <p:spPr>
          <a:xfrm>
            <a:off x="7434360" y="4600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29"/>
          <p:cNvSpPr/>
          <p:nvPr/>
        </p:nvSpPr>
        <p:spPr>
          <a:xfrm>
            <a:off x="6642000" y="4240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Text Box 30"/>
          <p:cNvSpPr/>
          <p:nvPr/>
        </p:nvSpPr>
        <p:spPr>
          <a:xfrm>
            <a:off x="4986360" y="4240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Text Box 31"/>
          <p:cNvSpPr/>
          <p:nvPr/>
        </p:nvSpPr>
        <p:spPr>
          <a:xfrm>
            <a:off x="6497640" y="5753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Text Box 32"/>
          <p:cNvSpPr/>
          <p:nvPr/>
        </p:nvSpPr>
        <p:spPr>
          <a:xfrm>
            <a:off x="7361280" y="56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Line 33"/>
          <p:cNvSpPr/>
          <p:nvPr/>
        </p:nvSpPr>
        <p:spPr>
          <a:xfrm>
            <a:off x="1763640" y="429264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3.1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托宾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比率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Tobin Q Rati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通过市场收购上市公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权衡的是目标企业的股票市值与企业重置成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由此托宾提出著名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比率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 Ratio=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目标企业股票市场价格总额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企业重置成本总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 Ratio&gt;1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则收购比新建一个企业支出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发生收购可能性小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 Ratio&lt;1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则收购比新建一个企业支出少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发生收购可能性大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的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OIL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该理论把邓宁关于新建投资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IL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理论运用于并购分析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具体内容如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042920" y="2781360"/>
          <a:ext cx="7416720" cy="4309920"/>
        </p:xfrm>
        <a:graphic>
          <a:graphicData uri="http://schemas.openxmlformats.org/drawingml/2006/table">
            <a:tbl>
              <a:tblPr/>
              <a:tblGrid>
                <a:gridCol w="741600"/>
                <a:gridCol w="2747880"/>
                <a:gridCol w="1949400"/>
                <a:gridCol w="197784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类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横向跨国并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纵向跨国并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混合跨国并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315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合并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: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双方都拥有在规模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\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协同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\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财务或市场势力方面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合并双方都拥有生产链各个工序互补性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双方在不相关领域均拥有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存在范围经济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: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并购双方生产体系区位无关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基于合并双方区位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市场规模和增殖前景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而非区位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: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共同优势内部化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联合内部化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获得规模经济效应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双方都想获得安全信息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\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财务与市场势力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降低交易成本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寻求范围经济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而非内部化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3188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: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者比被收购者具有更强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或寻求特定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者强大的财务和管理能力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者强大的财务和管理能力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而非所有权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: L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内涵在被收购的企业中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内涵在被收购的企业中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市场规模和增殖前景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而非区位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: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者通过内部化强化竞争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者通过内部化强化竞争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寻求范围经济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而非内部化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0T13:43:55Z</dcterms:created>
  <dc:creator>YPL</dc:creator>
  <dc:description/>
  <dc:language>en-US</dc:language>
  <cp:lastModifiedBy>Microsoft 帐户</cp:lastModifiedBy>
  <dcterms:modified xsi:type="dcterms:W3CDTF">2025-10-10T06:48:46Z</dcterms:modified>
  <cp:revision>22</cp:revision>
  <dc:subject/>
  <dc:title>跨国公司经营战略(2)—跨国并购</dc:title>
</cp:coreProperties>
</file>