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C60-73A7-4FD5-B3EB-09D176FD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03E-BD93-4109-BA5B-15089D55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CDA-B796-4274-8EE8-A40CB063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B79-55DA-4DA8-84C8-D03E5B6B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311C-CC08-406B-91EB-DAD9E0C1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DCE1-475D-4305-976A-866D614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12D2-15C6-4E86-AD01-1461239C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9DFE-DA4D-48CB-A0D5-433686D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8009-54C1-4149-89C6-55EF099F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7665-2D3C-4AA2-B63C-175963EA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CACB-C008-407E-AC6F-1D96611E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756-5F60-4FC3-B731-D97AB885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31F-7628-42DE-A30E-D691FF6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3A2-D372-48CD-8483-50155CA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5B5A-5BD4-458E-954A-54EEE624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6583-6B77-4BE0-B63C-314BF829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89C-2DFD-4BC9-A483-14490AFB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782-F47D-453D-999B-F98B78F7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561-2BC2-44C1-AB38-0912EB2B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68D-AC3E-4EE8-8CC0-93E1B361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928-673B-43CB-8655-1DC1985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FE1-0FF5-4DA1-9F7C-243A51BB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0DD-DE7A-4E15-993D-49485CF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1D9-2884-4AFE-B1A8-BFC8DFB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C906-BBC5-4980-84B7-B267C44C3C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89E9-13B5-4DCF-B02E-18D2F870AD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三章  跨国公司对外直接投资理论（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的提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上述理论从某一个侧面探讨了跨国公司对外直接投资的动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”特定优势”理论主要是静态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”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生命周期理论”主要是动态规范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缺乏一个融合多种因素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197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理查德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J.D.Richardson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把各种理论所强调的因素结合起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建立了包含一系列关键变量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称为”理查德森综合动因模型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文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J.D.Richardson,”On Going Abroad: The Firm’s Initial foreign Investment Decision”, Quarterly Review of Economics and Business,1971,pp7—2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  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概念的引入：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理查德森认为，企业的跨国投资不能完全用经济变量（特有优势、管理技能与专长、东道国成本低、进入壁垒等）来解释，因为，有投资机会未必导致国外企业的直接投资。在企业的决策变量中，非经济因素常常起到重要作用，于是，他用“空间偏好”概念表示各种非经济因素的投资效应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空间偏好”是企业管理者基于主观上对国外政治制度、社会环境、法律体系、语言文化的了解估计，而对于国外市场具有的一种”心理距离“，它决定了企业对国外投资期望利润的估计，构成海外直接投资的前提条件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因此，跨国公司对国外市场投资机会的评价主要基于两个变量：经济因素和“空间偏好”。从而预期投资收益函数得以构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预期投资收益函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这里，     表示管理者基于空间偏好率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te of SP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预期投资收益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管理者空间偏好或抵触惯性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ertial Resistance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主观变量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个市场投资项目的预期收益（利润）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580000" y="2781360"/>
          <a:ext cx="1944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781360"/>
                    <a:ext cx="1944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5651640" y="4005360"/>
          <a:ext cx="19044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05360"/>
                    <a:ext cx="190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92720" y="4941720"/>
          <a:ext cx="33012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941720"/>
                    <a:ext cx="330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6156360" y="3573360"/>
          <a:ext cx="144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3573360"/>
                    <a:ext cx="144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对东道国的政策含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约束条件的含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=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已经实施了跨国经营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V&lt;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有可能或拟进入一个新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V     0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某市场完全处于企业对外投资计划区之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大空间偏好，东道国政府可以作为。具体方法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东道国高质量市场信息发布（贸易洽谈展览会、国际商务信息发布会等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实施改善市场环境的政策措施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创造条件促进先入企业的经营业绩，形成”跟随效应“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332000" y="2852640"/>
          <a:ext cx="21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852640"/>
                    <a:ext cx="21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11"/>
          <p:cNvSpPr/>
          <p:nvPr/>
        </p:nvSpPr>
        <p:spPr>
          <a:xfrm>
            <a:off x="1692360" y="4797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投资的经济因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利润方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表示国外市场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对外直接投资的两个特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规模寡头厂商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寡头市场结构传导到东道国的目标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定价策略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P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母国售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 EC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出口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关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在母国的价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均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1187280" y="2924280"/>
          <a:ext cx="1994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1994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1187280" y="3429000"/>
          <a:ext cx="36036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429000"/>
                    <a:ext cx="360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476360" y="5157720"/>
          <a:ext cx="2232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157720"/>
                    <a:ext cx="2232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5651640" y="2997360"/>
          <a:ext cx="9270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997360"/>
                    <a:ext cx="927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"/>
          <p:cNvGraphicFramePr/>
          <p:nvPr/>
        </p:nvGraphicFramePr>
        <p:xfrm>
          <a:off x="5219640" y="3789360"/>
          <a:ext cx="352908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789360"/>
                    <a:ext cx="3529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厂商直接投资决策综合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综合以上经济与非经济因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包含空间偏好率的外部市场投资利润函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对外直接投资决策三阶段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预期投资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估计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公司决策层的偏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目标利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*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设定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企业自身特定优势和直接竞争对手的市场行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的实施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投资机会边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=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g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l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无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87280" y="3645000"/>
          <a:ext cx="331344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645000"/>
                    <a:ext cx="33134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4:45:31Z</dcterms:created>
  <dc:creator>YPL</dc:creator>
  <dc:description/>
  <dc:language>en-US</dc:language>
  <cp:lastModifiedBy>Administrator</cp:lastModifiedBy>
  <dcterms:modified xsi:type="dcterms:W3CDTF">2020-12-30T07:26:09Z</dcterms:modified>
  <cp:revision>21</cp:revision>
  <dc:subject/>
  <dc:title>5.跨国公司对外直接投资模型</dc:title>
</cp:coreProperties>
</file>