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DA1-9416-4BBA-B931-F3A63CE8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ADA-F19B-4CF1-A1C9-381834DA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3CB-9C5D-417D-8C09-745B8785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F20-85C1-40BA-AFB3-F828EFD9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24B1-BB05-43CD-AB34-3E5E0660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B3FE-E26A-4EA2-AF48-FF17C089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CBFA-8066-45B0-BC7F-C2D7E203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CA5A-38CD-4DC1-ADEC-E2E99BDE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693E-C0F2-4769-AEF7-60445F0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3649-E90B-4721-877B-32C7FAA9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DEFB-1D7B-440E-9B6C-6CBA397A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304-F737-4ED2-9E54-F07A9EA0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A12-0CE4-4684-A660-3062F602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4D4F-C486-4528-AE0A-BCA4DF5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426F-4D9F-4606-8FAB-380B3005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F30A-4981-4EAC-A9BE-82C18DC5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D040-7624-437C-A901-A46F1818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E49-E0C2-423C-8F66-2CDDB0FE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909-3D67-4B28-A535-8988061C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6B9-BA10-439D-A8CA-B6BA7B5C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1D0-0F67-49B4-8C22-0EA64EA4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D37-3225-4118-9A57-2C193194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B1A-F528-485A-B0CC-B6C925E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905-0F06-4110-BDC2-877185C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1642-5DC2-4881-8A5C-202BC5C330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AA7-6978-4C39-80DE-2B3EAAF307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七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4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技术转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的内容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影响因素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效应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让策略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直接投资途径的技术转移效应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正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激励与示范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节约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溢出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负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获得与使用的高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依赖与技术不适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当地企业成长的制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让与技术转让策略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贸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咨询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协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补偿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程承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许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8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研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9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备租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内容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方式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 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时间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知识产权组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WIPO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”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是指制造一种产品或提供一项服务的系统的知识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有两种表现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有形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Tangible Form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语言、文字、数据、公式、图表、配方等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无形形态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angible Form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，如专门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now-how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实验操作、操作工艺、思维观念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征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有形性与无形性相统一，本质上是无形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系统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商品属性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转移行动守则草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定义：“关于制造产品、应用生产方法或提供服务的系统知识的转移，但不包括货物的单纯买卖或租赁。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有两种主要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所拥有和控制的子公司实行内部化转移，主要采取对外直接投资方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他公司实行外部市场化转移。形式多样，主要有特许经营、许可证交易、技术援助、分包或委托制造安排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技术转移相关的几个概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ransfer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技术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ssignme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包括技术的地点转移与权利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则只是技术权利的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扩散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是有明确的经济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是技术通过市场或非市场渠道的传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引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国际技术转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国际技术转移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差距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由克拉弗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.Klarvas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波斯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.A.Posn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之后克鲁格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aul Krugma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多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ochel Dolla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詹森和菲斯比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nsen &amp; Thursby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、西莫利和萨特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imoli &amp;Soete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等相继发展了这个理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模型见右图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图示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5148360" y="2924280"/>
            <a:ext cx="0" cy="2665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148360" y="5589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149880" y="4008600"/>
            <a:ext cx="2171880" cy="155232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1368" h="978">
                <a:moveTo>
                  <a:pt x="0" y="978"/>
                </a:moveTo>
                <a:cubicBezTo>
                  <a:pt x="53" y="975"/>
                  <a:pt x="106" y="976"/>
                  <a:pt x="158" y="970"/>
                </a:cubicBezTo>
                <a:cubicBezTo>
                  <a:pt x="172" y="968"/>
                  <a:pt x="184" y="960"/>
                  <a:pt x="197" y="955"/>
                </a:cubicBezTo>
                <a:cubicBezTo>
                  <a:pt x="274" y="927"/>
                  <a:pt x="354" y="892"/>
                  <a:pt x="434" y="876"/>
                </a:cubicBezTo>
                <a:cubicBezTo>
                  <a:pt x="467" y="854"/>
                  <a:pt x="503" y="858"/>
                  <a:pt x="537" y="836"/>
                </a:cubicBezTo>
                <a:cubicBezTo>
                  <a:pt x="623" y="779"/>
                  <a:pt x="706" y="704"/>
                  <a:pt x="805" y="671"/>
                </a:cubicBezTo>
                <a:cubicBezTo>
                  <a:pt x="828" y="637"/>
                  <a:pt x="865" y="625"/>
                  <a:pt x="900" y="600"/>
                </a:cubicBezTo>
                <a:cubicBezTo>
                  <a:pt x="928" y="580"/>
                  <a:pt x="946" y="563"/>
                  <a:pt x="979" y="552"/>
                </a:cubicBezTo>
                <a:cubicBezTo>
                  <a:pt x="1012" y="501"/>
                  <a:pt x="973" y="551"/>
                  <a:pt x="1018" y="521"/>
                </a:cubicBezTo>
                <a:cubicBezTo>
                  <a:pt x="1052" y="499"/>
                  <a:pt x="1079" y="465"/>
                  <a:pt x="1113" y="442"/>
                </a:cubicBezTo>
                <a:cubicBezTo>
                  <a:pt x="1133" y="414"/>
                  <a:pt x="1156" y="399"/>
                  <a:pt x="1176" y="371"/>
                </a:cubicBezTo>
                <a:cubicBezTo>
                  <a:pt x="1185" y="344"/>
                  <a:pt x="1200" y="317"/>
                  <a:pt x="1215" y="292"/>
                </a:cubicBezTo>
                <a:cubicBezTo>
                  <a:pt x="1225" y="276"/>
                  <a:pt x="1247" y="245"/>
                  <a:pt x="1247" y="245"/>
                </a:cubicBezTo>
                <a:cubicBezTo>
                  <a:pt x="1262" y="200"/>
                  <a:pt x="1285" y="151"/>
                  <a:pt x="1318" y="118"/>
                </a:cubicBezTo>
                <a:cubicBezTo>
                  <a:pt x="1331" y="82"/>
                  <a:pt x="1368" y="38"/>
                  <a:pt x="1349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V="1">
            <a:off x="5219640" y="4149360"/>
            <a:ext cx="360036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5148360" y="4365720"/>
            <a:ext cx="3360600" cy="126504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1265040"/>
              <a:gd name="textAreaBottom" fmla="*/ 1265040 h 1265040"/>
            </a:gdLst>
            <a:ahLst/>
            <a:rect l="textAreaLeft" t="textAreaTop" r="textAreaRight" b="textAreaBottom"/>
            <a:pathLst>
              <a:path w="2117" h="797">
                <a:moveTo>
                  <a:pt x="3" y="797"/>
                </a:moveTo>
                <a:cubicBezTo>
                  <a:pt x="64" y="736"/>
                  <a:pt x="0" y="790"/>
                  <a:pt x="169" y="766"/>
                </a:cubicBezTo>
                <a:cubicBezTo>
                  <a:pt x="186" y="764"/>
                  <a:pt x="199" y="748"/>
                  <a:pt x="216" y="742"/>
                </a:cubicBezTo>
                <a:cubicBezTo>
                  <a:pt x="246" y="712"/>
                  <a:pt x="275" y="694"/>
                  <a:pt x="311" y="671"/>
                </a:cubicBezTo>
                <a:cubicBezTo>
                  <a:pt x="328" y="660"/>
                  <a:pt x="341" y="642"/>
                  <a:pt x="358" y="631"/>
                </a:cubicBezTo>
                <a:cubicBezTo>
                  <a:pt x="380" y="599"/>
                  <a:pt x="398" y="590"/>
                  <a:pt x="429" y="568"/>
                </a:cubicBezTo>
                <a:cubicBezTo>
                  <a:pt x="474" y="537"/>
                  <a:pt x="509" y="498"/>
                  <a:pt x="563" y="482"/>
                </a:cubicBezTo>
                <a:cubicBezTo>
                  <a:pt x="589" y="443"/>
                  <a:pt x="633" y="440"/>
                  <a:pt x="666" y="410"/>
                </a:cubicBezTo>
                <a:cubicBezTo>
                  <a:pt x="738" y="345"/>
                  <a:pt x="693" y="364"/>
                  <a:pt x="745" y="347"/>
                </a:cubicBezTo>
                <a:cubicBezTo>
                  <a:pt x="784" y="287"/>
                  <a:pt x="733" y="359"/>
                  <a:pt x="784" y="308"/>
                </a:cubicBezTo>
                <a:cubicBezTo>
                  <a:pt x="818" y="274"/>
                  <a:pt x="841" y="221"/>
                  <a:pt x="879" y="190"/>
                </a:cubicBezTo>
                <a:cubicBezTo>
                  <a:pt x="888" y="183"/>
                  <a:pt x="900" y="180"/>
                  <a:pt x="910" y="174"/>
                </a:cubicBezTo>
                <a:cubicBezTo>
                  <a:pt x="918" y="169"/>
                  <a:pt x="927" y="164"/>
                  <a:pt x="934" y="158"/>
                </a:cubicBezTo>
                <a:cubicBezTo>
                  <a:pt x="973" y="125"/>
                  <a:pt x="1014" y="102"/>
                  <a:pt x="1060" y="79"/>
                </a:cubicBezTo>
                <a:cubicBezTo>
                  <a:pt x="1101" y="58"/>
                  <a:pt x="1144" y="35"/>
                  <a:pt x="1186" y="16"/>
                </a:cubicBezTo>
                <a:cubicBezTo>
                  <a:pt x="1201" y="9"/>
                  <a:pt x="1234" y="0"/>
                  <a:pt x="1234" y="0"/>
                </a:cubicBezTo>
                <a:cubicBezTo>
                  <a:pt x="1460" y="7"/>
                  <a:pt x="1685" y="18"/>
                  <a:pt x="1912" y="24"/>
                </a:cubicBezTo>
                <a:cubicBezTo>
                  <a:pt x="1928" y="29"/>
                  <a:pt x="1944" y="35"/>
                  <a:pt x="1960" y="40"/>
                </a:cubicBezTo>
                <a:cubicBezTo>
                  <a:pt x="1968" y="43"/>
                  <a:pt x="1983" y="48"/>
                  <a:pt x="1983" y="48"/>
                </a:cubicBezTo>
                <a:cubicBezTo>
                  <a:pt x="2005" y="110"/>
                  <a:pt x="1972" y="36"/>
                  <a:pt x="2015" y="79"/>
                </a:cubicBezTo>
                <a:cubicBezTo>
                  <a:pt x="2048" y="112"/>
                  <a:pt x="2049" y="141"/>
                  <a:pt x="2086" y="166"/>
                </a:cubicBezTo>
                <a:cubicBezTo>
                  <a:pt x="2104" y="218"/>
                  <a:pt x="2085" y="213"/>
                  <a:pt x="2117" y="21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156360" y="4365720"/>
            <a:ext cx="244800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7956720" y="4724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810108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V="1">
            <a:off x="622764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V="1">
            <a:off x="579600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369280" y="539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522400" y="2786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演进与出口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8408520" y="450864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8245080" y="366552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垄断优势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海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ym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金德尔伯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indleberg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垄断优势理论解释跨国公司对外直接投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此基础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irsch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从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益分析的角度提出了选择模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方式三者间的选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提出跨国公司国际经营成本分为两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和特别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成本与利润的关系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收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别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出口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x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x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许可证贸易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的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弗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no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品生命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一项产品技术的导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周期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初期采用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期采用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东道国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期采用许可证贸易形式转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小岛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ojima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业转移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从本国已经处于或即将处于比较劣势的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边际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依次进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与技术转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N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national need),R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Resources)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劳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原材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机器设备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关系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不能够满足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会产生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会把原有技术转移到其他国家的企业中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技术创新与转移的循环向上的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理论的主要代表人物有巴克利和卡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ckley &amp; Casson,197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克鲁格曼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ugman,198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他们基于科斯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ase,193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和威廉姆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lliamson,197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创立的交易成本理论，提出内部化理论（如果企业内部交易成本小于市场交易成本，从而企业自己进行交易，实现内部化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巴克利和卡森的内部化原因分析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和卡森认为两种产业内部化的动力最强：一是收益递增的产业或资本密集产业；另一个产业是信息产业（包括一切基于知识资产的产业）。原因是：研发的成本与收益关系、信息产业的垄断性决定了最优策略为差别定价、外部市场的不完全性导致买卖双方的垄断地位使交易成本增加、技术泄露以及被模仿风险、知识难以定价故内部化为转移价格提供了条件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鲁格曼的选择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5300640"/>
          <a:ext cx="6095880" cy="10065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出口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直接投资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转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贸易壁垒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内部化优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利制度不完善形成的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移的内容、影响因素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的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业产权的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无形的财产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发明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用新型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观设计专利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商标专利权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非工业产权的技术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有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诀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设计方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计图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说明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示范和技术指导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供技术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影响跨国公司技术转移的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母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特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输入国的资源条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06:51Z</dcterms:created>
  <dc:creator>YPL</dc:creator>
  <dc:description/>
  <dc:language>en-US</dc:language>
  <cp:lastModifiedBy>Administrator</cp:lastModifiedBy>
  <dcterms:modified xsi:type="dcterms:W3CDTF">2020-12-30T07:27:37Z</dcterms:modified>
  <cp:revision>20</cp:revision>
  <dc:subject/>
  <dc:title>9.跨国公司经营战略(4)—技术转移</dc:title>
</cp:coreProperties>
</file>