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25A-ABC6-4E4F-B818-0D8EEF04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BA6C-0F40-4913-8C60-435101DE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632F-A67E-4A9D-9CED-0EC350D3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AAB-57B2-42B3-BB1C-3BF127F3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46A5-40B4-4B48-BACC-8ABA9F89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CAD8-9879-4714-9C0E-D527A993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87F5-09A7-4554-94D2-9DFD8AAC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A3B4-93E1-42E6-802E-D920E1ED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92F4-62BC-48D5-8450-3F23141C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B64C-444D-40CB-A5F8-66DCAA43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4617-CADB-4B63-9E46-CFB87DC4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01D-0C0D-41B8-A5AF-77F47599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480C-19CE-4ECD-9B2E-EE7337F2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A044-FA59-4396-B5FC-05C0FD82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2363-83B8-4D75-97B4-F0508BB4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E259-B311-4CFD-B475-F2256E9C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BCE7-EB47-4E6E-A404-05249926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958-0522-45D8-B690-B6CBFED9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F468-6CA7-4A27-AA41-EA0ABFB7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B3E2-6A28-4C30-9C23-B7F36F72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B20-3850-4415-9B8F-CDBEF251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2E3-885E-4C8C-B9F5-7B6C6C32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C9DE-CD37-4390-BD5C-A4F51AB7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4B17-3BBF-4385-869D-1DC24415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043F-33EA-4323-B12A-5FDCE30C56E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D52F-E86C-457C-82C0-DCA6064FE6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三章  跨国公司对外直接投资理论（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直接投资综合动因模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直接投资综合动因模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模型的提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上述理论从某一个侧面探讨了跨国公司对外直接投资的动因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”特定优势”理论主要是静态分析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”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产品生命周期理论”主要是动态规范分析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缺乏一个融合多种因素的综合性动态模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197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理查德森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J.D.Richardson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把各种理论所强调的因素结合起来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建立了包含一系列关键变量的综合性动态模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被称为”理查德森综合动因模型”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文献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J.D.Richardson,”On Going Abroad: The Firm’s Initial foreign Investment Decision”, Quarterly Review of Economics and Business,1971,pp7—22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2  “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空间偏好”（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Spatial Preference, SP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）模型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概念的引入：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理查德森认为，企业的跨国投资不能完全用经济变量（特有优势、管理技能与专长、东道国成本低、进入壁垒等）来解释，因为，有投资机会未必导致国外企业的直接投资。在企业的决策变量中，非经济因素常常起到重要作用，于是，他用“空间偏好”概念表示各种非经济因素的投资效应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空间偏好”是企业管理者基于主观上对国外政治制度、社会环境、法律体系、语言文化的了解估计，而对于国外市场具有的一种”心理距离“，它决定了企业对国外投资期望利润的估计，构成海外直接投资的前提条件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因此，跨国公司对国外市场投资机会的评价主要基于两个变量：经济因素和“空间偏好”。从而预期投资收益函数得以构造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预期投资收益函数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这里，     表示管理者基于空间偏好率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ate of SP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的预期投资收益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 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表示管理者空间偏好或抵触惯性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nertial Resistance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的主观变量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表示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个市场投资项目的预期收益（利润）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5580000" y="2781360"/>
          <a:ext cx="19447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2781360"/>
                    <a:ext cx="1944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5651640" y="4005360"/>
          <a:ext cx="190440" cy="20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4005360"/>
                    <a:ext cx="1904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7"/>
          <p:cNvGraphicFramePr/>
          <p:nvPr/>
        </p:nvGraphicFramePr>
        <p:xfrm>
          <a:off x="5292720" y="4941720"/>
          <a:ext cx="330120" cy="25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4941720"/>
                    <a:ext cx="33012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8"/>
          <p:cNvGraphicFramePr/>
          <p:nvPr/>
        </p:nvGraphicFramePr>
        <p:xfrm>
          <a:off x="6156360" y="3573360"/>
          <a:ext cx="1440000" cy="2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6360" y="3573360"/>
                    <a:ext cx="14400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空间偏好”（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Spatial Preference, SP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）模型对东道国的政策含义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约束条件的含义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=1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已经实施了跨国经营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V&lt;1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有可能或拟进入一个新市场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V     0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某市场完全处于企业对外投资计划区之外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增大空间偏好，东道国政府可以作为。具体方法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东道国高质量市场信息发布（贸易洽谈展览会、国际商务信息发布会等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实施改善市场环境的政策措施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创造条件促进先入企业的经营业绩，形成”跟随效应“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1332000" y="2852640"/>
          <a:ext cx="21603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852640"/>
                    <a:ext cx="2160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Line 11"/>
          <p:cNvSpPr/>
          <p:nvPr/>
        </p:nvSpPr>
        <p:spPr>
          <a:xfrm>
            <a:off x="1692360" y="479736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投资的经济因素模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经济利润方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表示国外市场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对外直接投资的两个特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大规模寡头厂商实施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寡头市场结构传导到东道国的目标行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因此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的定价策略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其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Pd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为母国售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 EC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为出口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T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为关税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厂商在母国的价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平均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9" name="Object 7"/>
          <p:cNvGraphicFramePr/>
          <p:nvPr/>
        </p:nvGraphicFramePr>
        <p:xfrm>
          <a:off x="1187280" y="2924280"/>
          <a:ext cx="1994040" cy="25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24280"/>
                    <a:ext cx="199404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9"/>
          <p:cNvGraphicFramePr/>
          <p:nvPr/>
        </p:nvGraphicFramePr>
        <p:xfrm>
          <a:off x="1187280" y="3429000"/>
          <a:ext cx="360360" cy="2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429000"/>
                    <a:ext cx="36036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1"/>
          <p:cNvGraphicFramePr/>
          <p:nvPr/>
        </p:nvGraphicFramePr>
        <p:xfrm>
          <a:off x="1476360" y="5157720"/>
          <a:ext cx="2232000" cy="35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5157720"/>
                    <a:ext cx="22320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3"/>
          <p:cNvGraphicFramePr/>
          <p:nvPr/>
        </p:nvGraphicFramePr>
        <p:xfrm>
          <a:off x="5651640" y="2997360"/>
          <a:ext cx="92700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51640" y="2997360"/>
                    <a:ext cx="9270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4"/>
          <p:cNvGraphicFramePr/>
          <p:nvPr/>
        </p:nvGraphicFramePr>
        <p:xfrm>
          <a:off x="5219640" y="3789360"/>
          <a:ext cx="3529080" cy="868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19640" y="3789360"/>
                    <a:ext cx="352908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厂商直接投资决策综合模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综合以上经济与非经济因素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包含空间偏好率的外部市场投资利润函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厂商对外直接投资决策三阶段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预期投资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估计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决定于公司决策层的偏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投资目标利润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*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设定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决定于企业自身特定优势和直接竞争对手的市场行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直接投资的实施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决定于投资机会边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=U*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&gt;U*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实施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&lt;U*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无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2" name="Object 6"/>
          <p:cNvGraphicFramePr/>
          <p:nvPr/>
        </p:nvGraphicFramePr>
        <p:xfrm>
          <a:off x="1187280" y="3645000"/>
          <a:ext cx="3313440" cy="12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645000"/>
                    <a:ext cx="331344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4:45:31Z</dcterms:created>
  <dc:creator>YPL</dc:creator>
  <dc:description/>
  <dc:language>en-US</dc:language>
  <cp:lastModifiedBy>Administrator</cp:lastModifiedBy>
  <dcterms:modified xsi:type="dcterms:W3CDTF">2020-12-30T07:26:09Z</dcterms:modified>
  <cp:revision>21</cp:revision>
  <dc:subject/>
  <dc:title>5.跨国公司对外直接投资模型</dc:title>
</cp:coreProperties>
</file>