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C3D2-1045-40FB-8519-53596AB26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0437-0B90-4AB5-A6C9-198850998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8A30-E554-485B-84E3-003507896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0C41-0799-4CF6-815F-B9531372A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D6A60-B006-4A99-ADE6-0017EE287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C6A61-AEC9-434B-9939-0DCB68924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62198-CDB2-4FB9-86A1-1B2F6F2E0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A5699-CAC6-44D3-B972-B9C2134C2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AA4FA-C38B-42C1-A6D4-55BAB7E37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D8D39-2855-4927-B402-5B6F5087C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8209D-7B71-435C-9B90-F0C0F3B0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E58F-2FEB-45B4-9788-7D896D723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13E89-70DF-435C-83F2-E7FD1106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CA353-43D4-4A1A-90CC-A27FB348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83726-007C-4328-A55B-D1E77B2A0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47C3C-0482-44B8-95E2-8300F2C12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C59F2-545E-4A05-8DBC-C1A3E6D5A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189D9-D4C0-47FC-BCF3-3406601FE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C01B4-D6C7-4F01-9E3B-A602DB563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AD781-59DC-478C-B120-C4F570681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187FC-9538-4F40-B7AC-B351F5828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B075F-DD5B-49EA-AFFF-13155939C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425A-EB71-4ECF-9CB1-A724B8889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53171-CB7F-4783-AD67-03D17E2C8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35FD1-1689-45EA-A355-39FF8FC9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615AF-EBAD-4FD5-AF1D-BB3CDDFC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ED9AE-BECF-49BD-A39C-C922267F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B97B7-7B4B-460A-BCF1-AA806B68F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0CEC7-A982-473A-BB30-3869121A4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532F2-B6B9-4926-8389-FD60E5CF5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6B35A-2D75-477E-8EB6-813B17D00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8E782-CCB3-4489-B362-F10641E80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DA48B-ED68-407A-AA2C-BFE298F62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CC0F-B3EE-49C3-8998-A2D0573DF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DE228-914A-4B98-9AA4-B2E3CFDF8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A2BCD-A165-47C2-9EDC-5E3E09207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E4A4C-CECA-45A4-9C8A-8435BA4F7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2E520-CB86-48B6-B356-630F8D52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9CD93-B23C-45E1-8D7D-773F784D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49001-30E1-4A82-93C0-B3CE09B4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A40C5-D7BD-47E6-B8A9-C91BEAF66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B08FF-A2A4-413B-ACC0-24226DC74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C07BF-F74B-44EE-A9F7-8928E389F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0C37-6AB6-4207-87F9-3C54572F6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4E1E-19BB-4800-9756-A474FCE40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5604-563A-4341-9121-FA18E929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3A20-6A86-4D5B-9A4E-6CB22682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40F2-DA22-48D9-BA00-C82A6795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5C4FD1-DB05-4016-88B6-EC0299E88258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338D71-D26D-46C5-B3A1-22760BE2FC0B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2DA257-DB84-4843-8C1B-C16B6AD30E02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A385DD-3430-45EC-9491-2EB0402A89D3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30400" y="2404800"/>
            <a:ext cx="582768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54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第四章</a:t>
            </a:r>
            <a:br>
              <a:rPr sz="5400"/>
            </a:b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30400" y="4051080"/>
            <a:ext cx="582768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5400" spc="-1" strike="noStrike">
                <a:solidFill>
                  <a:srgbClr val="7f7f7f"/>
                </a:solidFill>
                <a:latin typeface="Times New Roman"/>
                <a:ea typeface="华文新魏"/>
              </a:rPr>
              <a:t>本票和支票</a:t>
            </a:r>
            <a:endParaRPr b="0" lang="en-US" sz="5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五、支票的保付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保付的法律效力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880" y="31320"/>
            <a:ext cx="8763120" cy="21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zh-CN" sz="36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第一节</a:t>
            </a:r>
            <a:r>
              <a:rPr b="0" lang="zh-CN" sz="3600" spc="-1" strike="noStrike">
                <a:solidFill>
                  <a:srgbClr val="90c226"/>
                </a:solidFill>
                <a:latin typeface="Arial"/>
                <a:ea typeface="方正姚体"/>
              </a:rPr>
              <a:t>       </a:t>
            </a:r>
            <a:r>
              <a:rPr b="0" lang="zh-CN" sz="36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 </a:t>
            </a: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      </a:t>
            </a:r>
            <a:r>
              <a:rPr b="0" lang="zh-CN" sz="36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本票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一、本票的概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本票是出票人作成的一项无条件的书面支付承诺。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Arial"/>
                <a:ea typeface="方正姚体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9480" y="2160360"/>
            <a:ext cx="677088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中国票据法定义： 见票即付，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</a:t>
            </a:r>
            <a:r>
              <a:rPr b="0" lang="zh-CN" sz="2800" spc="-1" strike="noStrike">
                <a:solidFill>
                  <a:srgbClr val="404040"/>
                </a:solidFill>
                <a:latin typeface="Trebuchet MS"/>
                <a:ea typeface="华文新魏"/>
              </a:rPr>
              <a:t>银行本票 （商业本票？）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1941120"/>
            <a:ext cx="853740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二、必要项目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本票必要项目包括以下项目：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表示本票的字样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无条件支付承诺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404040"/>
                </a:solidFill>
                <a:latin typeface="Trebuchet MS"/>
                <a:ea typeface="华文新魏"/>
              </a:rPr>
              <a:t>确定金额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收款人或者其指定人的名称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出票日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出票人的签章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三、本票与汇票行为的差异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出票行为：出票人的义务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提示行为：提示期间的不同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第二节    支票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 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一、概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 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支票是无条件的书面支付命令，是一种以银行为付款人的即期汇票。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二、必要项目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表示支票的字样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二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无条件支付一定金额的委托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三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付款人名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四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出票日期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五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出票人签章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票据金额和空白支票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三、出票和空头支票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四、支票划线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一般划线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特别划线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9T07:30:26Z</dcterms:created>
  <dc:creator>lixiaojie</dc:creator>
  <dc:description/>
  <cp:keywords/>
  <dc:language>en-US</dc:language>
  <cp:lastModifiedBy>li carrie</cp:lastModifiedBy>
  <cp:lastPrinted>1899-12-30T00:00:00Z</cp:lastPrinted>
  <dcterms:modified xsi:type="dcterms:W3CDTF">2023-07-26T04:08:40Z</dcterms:modified>
  <cp:revision>10</cp:revision>
  <dc:subject/>
  <dc:title>第四章 本票和支票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