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28350-F5CD-4753-819F-40566C2BF81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AD5ED-ECC3-49A3-82DC-EE95053A273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F6171-B64A-4283-9270-CAF3EC80F95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3BBA2-B186-4F11-85B6-C3B1E9840AA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CC9DA-8515-4A5C-AC9F-D4AB7556E8A9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0D923-2B70-48D4-8BB9-EB866281AA4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68555-82AA-4BD0-9F10-A5839205FD2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9E58B-5912-4914-BFFC-9472544D8BA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CCF07-ACBE-488E-9C1F-567BAF677CD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738BA-1F54-463C-A85F-81386316E6CF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43A9E-6794-4DCB-B9E4-5B910C808209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3446C-60AC-4D3B-8386-A0BC5A07B26F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ED2-A77E-457D-9975-66128FB9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E5D-5620-420A-8112-4AF5F8FF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CEE-E8B5-4AEC-AD46-E5F27F73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259-1201-4F28-814F-EF452D3C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FF33-4F7E-490B-9F3A-49A7098D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AFA2-E9BE-4229-8CF8-E744C512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B100-A233-4D33-90BC-39CCCDBD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E8A0-B15E-43AA-9355-64A1E8E3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C2DA-9C41-4B17-A431-99481CFE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4CF8-C348-4B4B-919C-8D7BF4E9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2C86-6F50-4BAF-A4A4-1005B471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421-F91D-48F0-9E45-04321C9E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2736-74BC-42A3-A1E2-68C6D7E9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2352-458E-4DEE-9C2A-925D2C94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2ECD-6F44-4D5B-8F62-83945EA1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48DC-0162-4306-BA60-15DD32B9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7652-1258-4696-9E78-0D5B61EF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21D5B-C7D1-4947-B6C5-AB8A376F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15CB1-D035-437B-A331-581F37F8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08FAA-8B0E-4C8E-BCA8-07B2F90F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D4217-CBE0-469F-81BB-3D149F91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96664-5403-49A8-9879-785F92B4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ADD-FC45-4AF8-B6EB-36CC0D5D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6F1C3-6D9D-4A1E-9EAA-0DB8313A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9B0B-F355-42B3-B323-05EFCFCC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00427-5DC3-4F95-9D9B-A6EFEF50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8035-DF8B-443C-B338-8AD14419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39A6-BEDF-4C41-AD4D-93A7CA82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770A2-9086-477D-B98B-9CA73989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0BAA-AAFC-4A0E-A7AB-D731588E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CDCFA-1156-4C30-BCC3-6B52462D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3C560-CD82-49EE-AF77-643F6919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9CFA2-45D7-44F8-B37B-8E863A8B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22B-E82A-4B37-BD5A-304614EE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4B9AE-1825-4821-9637-4CF61F33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C0AF9-55FA-4A2E-98F8-D7C6620B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89124-F13D-46E6-BEAD-4253867C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2205D-6CA9-4B9E-958E-5CA03E30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C3805-97B4-4483-A2A4-9F03EEF3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4F332-B2FA-47CE-9C98-321225C2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23972-E6BD-49B9-88FD-8939F364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36683-9D20-4E62-97B7-978D1EB3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382D7-C0CF-4DE9-B6FD-83549E11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976-9DDB-44DF-8F59-63716161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2F5-0F92-41E5-8D1B-A1355754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9B0-DC4D-48B5-AD4E-D212F251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A52-B7A3-490F-B682-A7C09086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97A-BCAC-4356-AD16-AA8341D0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A6D0E-59E6-4C9C-8440-5A14FF0F5F72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50DFE-4D4F-4C62-B0AB-DB5DEF113C6C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86A0A-2584-429E-AE23-077149A630FA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96D8A-BE71-4874-A353-AD8401306FAE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1844280"/>
            <a:ext cx="58276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十一章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7640" y="3500280"/>
            <a:ext cx="8496360" cy="16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国际结算的单据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以及单据审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其他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检验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产地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装箱单和重量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船公司证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单据审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原则：单证相符和单单相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审单自动化趋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不符点的处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商业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形式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关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领事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货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内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当事人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arr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hipp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signe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fying pa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已装船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清洁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记名提单和指示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倒签提单和预借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国际公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牙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维斯比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汉堡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空运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铁路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邮包收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多式联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保险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全损和部分损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共同海损和单独海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承保险别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基本险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P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W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LL RIS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附加险：一般附加险和特别附加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据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和保险凭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流动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loating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和 预约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pen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4:40:37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0:17Z</dcterms:modified>
  <cp:revision>8</cp:revision>
  <dc:subject/>
  <dc:title>第十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