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F356-C5AF-42AA-91B1-D9C17148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F21A-8826-4CA0-9A71-CD25561B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6F8D-C5D0-4598-8245-ADA03339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D048-5A4C-45D5-93B1-96B27269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47D6-4C2C-4204-ADFF-DFC968BD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7AAC-95DB-49DC-974F-C7A49F6C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653C-17D2-4ED9-AE0D-B171042E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1877-00DB-41E6-B644-1B054925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3D9C-E8A5-4B1B-9424-A33AB75B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C945-E471-43CE-B403-6F5A8760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7434-18CC-4F2D-8616-7888E9DD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314-05E8-4726-B6A7-225D55E8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BDC8-C6AD-4D81-9A76-AC942F87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3454-AE41-4946-A40C-C78D379B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F8F3-A9CC-48B3-9197-1FE51942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55EA-6E8A-4B77-A9F8-FCB6B2C2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D23B-C35D-423B-BCBD-CA40B415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7F20F-7BCF-43DD-8754-FE3771CC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EC26C-F725-4949-AA12-669E1628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CAE6B-9258-4AF6-B389-85C90A42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B11CF-C229-4CF1-8CA8-54883D7C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1ACD1-D6CA-4787-A365-361C396B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D4C8-2197-4A04-A0A1-D792CBA0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502F8-4E94-470F-9C62-9C89D942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2BC7E-D980-4FAC-9B8E-EA57E96A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FC89E-691D-4A37-988E-81529C29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98707-38F9-44FB-871C-8ED88117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20AC7-36F6-4458-9B4B-F9CC290E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CED33-24AA-44E6-9A5F-A2F0BD58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8CA62-5066-45A3-A93C-B611BF75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E4DB3-3A0B-4F91-A34C-B458B0CA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BA93D-D12F-4E80-B179-249010A1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D698B-745B-4607-BC64-09A93299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9E7-8ABC-4ABE-9454-BF6DCFF9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47E3C-6A86-48FF-891C-5D02867F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0BEBF-5225-4B42-A276-9E81E0ED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86486-E7E0-4955-B649-2695B1A4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C3361-A6C5-4FAE-AA43-6389281E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3A5CE-81AD-4A89-BC35-DC494257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FB561-86EB-4B95-992E-5642F04D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8BDB5-F60B-4036-BED7-E45560E6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26667-8400-4446-A788-4357725F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B2342-77B4-4C7C-987E-23CF96C3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3F84-E12F-4049-BB7E-44FA060B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28C1-3A95-4190-853C-1AEC9E1C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35AF-D207-4907-B6C8-D07B4BDE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3506-6788-4BF4-AD2B-EACCDD59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4406-C4F3-41BF-B8E5-CC4587CC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8C279-94A8-4287-9B40-81C7FD40519D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2B20E-E4E7-41A5-945E-B4ADD8F6DE75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9953A-550C-4EC0-9D75-FD8153082F43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E8D18-C5AD-4606-83B3-E73209F8245F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7280" y="1988640"/>
            <a:ext cx="545004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rebuchet MS"/>
                <a:ea typeface="方正姚体"/>
              </a:rPr>
              <a:t>   </a:t>
            </a:r>
            <a:r>
              <a:rPr b="0" lang="zh-CN" sz="54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三章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040" y="4051440"/>
            <a:ext cx="452124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汇票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某一特定事件发生后定期付款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the happening of a specified ev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days after bill of lading date pay to the order of 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出票地点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lace of 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付款地点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lace of pay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任意记载事项，主要有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担当付款行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 Banker designated as paye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(date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Bank Of Europ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预备付款人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feree in case of need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To:  C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In case of need refer t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BC Company, 129 Buffee Street, Lond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免作退票通知或者放弃拒绝证书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 excused or Protest waived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 excused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A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   无追索权（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Without recours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Without recourse to u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For A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(signed)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00000" y="320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三、汇票当事人及其权利义务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基本当事人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收款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其他当事人：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被背书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保证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Guaranto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参加承兑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or for hono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持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Hol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正当持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Holder in due cours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imes New Roman"/>
              <a:ea typeface="方正姚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正当持票人的条件：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给付对价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善意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对票据逾期或者曾被拒绝承兑或付款，或者对任何人就票据提出的任何抗辨或者权利主张，均不知情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四、汇票的种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根据不同的标准，汇票可分为不同种类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即期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ight Bill or Demand Draf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远期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ime Bill or Usance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光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Clean Bill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以及跟单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Documentary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   银行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Banker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商业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rader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Bill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国内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Inland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外国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eign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二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汇票的行为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票据行为概念与特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狭义的票据行为与广义的票据行为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票据行为具有要式性、无因性、文义性和独立性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汇票的出票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三、汇票的背书（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的概念和法律效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的种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（三）   背书的伪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特别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pecial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D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, Shangha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空白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lank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一节</a:t>
            </a:r>
            <a:r>
              <a:rPr b="0" lang="zh-CN" sz="3200" spc="-1" strike="noStrike">
                <a:solidFill>
                  <a:srgbClr val="90c226"/>
                </a:solidFill>
                <a:latin typeface="Arial"/>
                <a:ea typeface="方正姚体"/>
              </a:rPr>
              <a:t>   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汇票的概念和必要项目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汇票的概念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汇票的必要项目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三、汇票当事人及其权利与义务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四、汇票的种类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限制性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strictive   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D Company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附有条件的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ditional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D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delivery of Bill of lading Nol23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 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              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委托收款背书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ment for collection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ollection pay to the order of Bank of China ,Shanghai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ank of China ,Shanghai for deposit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ank of China ,Shanghai value in collection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6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设质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ment in pledg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7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回头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verse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又称还原背书或逆背书，是以票据债务人为被背书人的转让背书。如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签发一张以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为收款人的汇票，该汇票出票后的流通转让如下表所示：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四、汇票的提示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resentmen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五、汇票的承兑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anc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普通承兑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（二）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限制性承兑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条件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dition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on delivery of bills of la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部分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rti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for amount of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￡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500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限制地点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Loc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the Bank of Europe ,London and there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延长付款时间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Qualified acceptance as to tim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ninety days after sig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六、汇票的付款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七、汇票的退票、退票通知和拒绝证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退票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ishono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退票通知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拒绝证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rotes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、</a:t>
            </a:r>
            <a:r>
              <a:rPr b="0" lang="zh-CN" sz="2400" spc="-1" strike="noStrike">
                <a:solidFill>
                  <a:srgbClr val="404040"/>
                </a:solidFill>
                <a:latin typeface="Trebuchet MS"/>
                <a:ea typeface="华文新魏"/>
              </a:rPr>
              <a:t>汇票的概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Trebuchet MS"/>
                <a:ea typeface="华文新魏"/>
              </a:rPr>
              <a:t>票据，就是指出票人签发的，无条件的承诺由自己或委托他人支付一定金额的有价证券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八、汇票的追索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cours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九、汇票的参加承兑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ance for hono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 FOR HONO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f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B   Company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9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, July,2o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K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      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十、汇票的保证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Guarante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MENT GUARANTEED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account of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igned by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ated on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绝对必要项目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汇票字样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Bill of exchang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无条件支付命令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Unconditional order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in our No.I account the sum of one thousand pounds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provided the goods the supply are complied with contract the sum of one thousand pounds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确定的金额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moun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利息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plus interest calculated at the rate of 3% per annum from the date hereof to the date of payment.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分期付款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by ten equal consecutive monthly installments.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支付其他货币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converted into US dollar at current rate of exchange.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的名称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ame of draw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收款人名称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ame of pay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限制性抬头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strictive or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only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，或者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，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 Transferable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指示性抬头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emonstrative Or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or order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来人抬头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earer Orde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ear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or bear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六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日期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ate of 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（七）出票人签章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signature</a:t>
            </a: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票据上的相对必要项目，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付款日期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eno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汇票是信用工具，其付款期限有两种，即期和远期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即期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sight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demand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presentation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远期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on a fixed future dat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20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,July 20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××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pay to the order  of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出票后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dat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 days after date pay to the order of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见票后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sigh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 days after sight pay to the order of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8:19:14Z</dcterms:created>
  <dc:creator>chen xiaolong</dc:creator>
  <dc:description/>
  <cp:keywords/>
  <dc:language>en-US</dc:language>
  <cp:lastModifiedBy>li carrie</cp:lastModifiedBy>
  <cp:lastPrinted>1899-12-30T00:00:00Z</cp:lastPrinted>
  <dcterms:modified xsi:type="dcterms:W3CDTF">2023-07-26T04:07:32Z</dcterms:modified>
  <cp:revision>25</cp:revision>
  <dc:subject/>
  <dc:title>第三章        汇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