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F9CA-3AD0-4113-9E13-BA518029D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A1B6-EAFD-491F-9F39-DBCC24DF6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0F69-174B-4CE8-A689-802980C05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7892-C147-403E-9D58-A26DF25A4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C1BFB-3B0D-460A-9EEC-D712F6636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0301D-B839-4C9E-8BDA-1FADBD3B3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C9402-CEB8-44B6-A28D-92D54C959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32644-D97F-48A8-A381-C59D42A72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5A904-E43C-4EE4-88DA-416C1609D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67D20-2A7F-4BDB-96D7-4B1027B4A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46553-C47A-422C-82AD-AFD5FA3B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2054-7ED3-419C-A99B-AAF5DA41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448B4-63C7-42B9-8B66-C22793AB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0D369-8A3C-48D5-B3B3-50394C65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0D935-133B-4D0F-B98F-AD7E4CAC5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A381E-DA22-41C5-ADDE-238BCA5FF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FCF51-4928-4A81-9546-DCD5547C6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8999C-5592-4DF2-9BBC-6AAC3B64E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60BCB-3073-4067-AE81-B59D15F6A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DA03D-FF45-423A-8019-37BCAA34F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09208-3939-4A2A-825A-668BD5541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11603-D2DD-44B6-81EA-D1FA0B943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D6BF-178E-4081-B197-7B5251C46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89805-24A8-408E-9CBF-894998B32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1F43C-5E4B-4519-8A06-1137C5F1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976D3-1F3F-43B4-A415-696858CB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735FF-0742-4542-9022-A3F944E7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30593-8438-4F0B-86D1-9F4B65239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7C90D-B52C-4FA5-A79A-BF6F5AB6A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32255-5A21-42DD-B9FF-776F05102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3FA25-3530-4123-ABE7-DEA84010F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F830A-A9AB-4B8B-90A5-1867D3B8C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A23BD-1E9C-46B5-A44F-F87985D0A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E53A-782B-4217-A77B-400DEEE87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3869D-BADC-483A-B5B7-E0CFC2D5F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40DDF-8A06-4CE7-ABD9-E61DB1086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9C431-C04E-4125-8EEC-65A72F505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A532B-BE58-46B6-85AF-C3923D01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67BAD-D20C-402A-AE49-FBB247BE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F3140-9C45-45EB-A962-0D577FA2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82ADD-2687-472F-95CB-94EEA7CBB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57982-D2E3-43D9-B2BC-41307CC1E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C829E-DEA7-4002-A72C-33E51AB91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2561-D244-43DF-89DB-9E5FEAAD4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DF51-31F7-40FB-A1E0-CDFFB90FE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FFDD-C4F0-4BAB-994E-D64A74DF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1E45-A02D-4D1A-B43B-D464D654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803A-814F-41D2-BFAA-2AB3AA3A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F35EF-E3C6-404E-90CD-1EC7B9CE181C}" type="slidenum">
              <a:rPr b="0" lang="zh-CN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490E4-7E0E-4BDB-BE46-B10EFD4D7558}" type="slidenum">
              <a:rPr b="0" lang="zh-CN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C0F45-3E8D-409E-BFED-CB649C5AD513}" type="slidenum">
              <a:rPr b="0" lang="zh-CN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390C7-226E-4778-914F-418036C9CFBA}" type="slidenum">
              <a:rPr b="0" lang="zh-CN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30400" y="2404800"/>
            <a:ext cx="582768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5400" spc="-1" strike="noStrike">
                <a:solidFill>
                  <a:srgbClr val="90c226"/>
                </a:solidFill>
                <a:latin typeface="Times New Roman"/>
              </a:rPr>
              <a:t>第二章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30400" y="4051080"/>
            <a:ext cx="582768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7f7f7f"/>
                </a:solidFill>
                <a:latin typeface="Times New Roman"/>
              </a:rPr>
              <a:t>票据概述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（三）票据的丧失与票据权利补救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1.   </a:t>
            </a: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票据的丧失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2.   </a:t>
            </a: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票据权利的补救措施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公示催告制度，尤以德国与日本为代表；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    </a:t>
            </a: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公告、除权判决、实现票据权利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普通诉讼制度，尤以美国为代表。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     </a:t>
            </a: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实现付款请求权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 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（四）票据权利时效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二、利益返还权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50560" y="2060640"/>
            <a:ext cx="8210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</a:rPr>
              <a:t>三、票据抗辩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</a:rPr>
              <a:t>（一）票据抗辩的概念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404040"/>
                </a:solidFill>
                <a:latin typeface="Times New Roman"/>
              </a:rPr>
              <a:t>对人抗辩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</a:rPr>
              <a:t>2. </a:t>
            </a:r>
            <a:r>
              <a:rPr b="0" lang="zh-CN" sz="2800" spc="-1" strike="noStrike">
                <a:solidFill>
                  <a:srgbClr val="404040"/>
                </a:solidFill>
                <a:latin typeface="Times New Roman"/>
              </a:rPr>
              <a:t>对物抗辩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Times New Roman"/>
              </a:rPr>
              <a:t>对人抗辩事由主要有：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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        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404040"/>
                </a:solidFill>
                <a:latin typeface="Times New Roman"/>
              </a:rPr>
              <a:t>欠缺原因关系或者非法原因关系。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</a:rPr>
              <a:t>对物抗辩事由一般根据票据法的有关规定提出的，主要有：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</a:rPr>
              <a:t>欠缺应记载的事项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</a:rPr>
              <a:t>票据未到期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</a:rPr>
              <a:t>票据时效届满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</a:rPr>
              <a:t>票据债务人欠缺行为能力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</a:rPr>
              <a:t>票据无权代理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</a:rPr>
              <a:t>票据伪造或者变造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</a:rPr>
              <a:t>票据保全手续欠缺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rebuchet MS"/>
              </a:rPr>
              <a:t>      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（二）票据抗辩的限制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小结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练习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imes New Roman"/>
              </a:rPr>
              <a:t>第一节</a:t>
            </a:r>
            <a:r>
              <a:rPr b="0" lang="zh-CN" sz="3600" spc="-1" strike="noStrike">
                <a:solidFill>
                  <a:srgbClr val="90c226"/>
                </a:solidFill>
                <a:latin typeface="Arial"/>
              </a:rPr>
              <a:t>   </a:t>
            </a:r>
            <a:r>
              <a:rPr b="0" lang="zh-CN" sz="3600" spc="-1" strike="noStrike">
                <a:solidFill>
                  <a:srgbClr val="90c226"/>
                </a:solidFill>
                <a:latin typeface="Times New Roman"/>
              </a:rPr>
              <a:t> 票据的概念及特性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</a:rPr>
              <a:t>一、票据的概念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</a:rPr>
              <a:t>票据，就是指出票人签发的，无条件的承诺由自己或委托他人支付一定金额的有价证券。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</a:rPr>
              <a:t>二、票据主要特性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要式性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形式要件齐全、记载合乎规范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无因性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票据产生具有原因关系，如基础贸易合同，资金关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流通转让性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票据流通转让形式：仅凭交付完成转让或者背书转让；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票据流通转让的受让人，其所拥有的票据权利可能超越其前手；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设权性和文义性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09120" y="227628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三、票据的功能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1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．  支付功能（支票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2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．  信用功能（汇票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3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．  流通功能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56920" y="860400"/>
            <a:ext cx="7754760" cy="6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90c226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90c226"/>
                </a:solidFill>
                <a:latin typeface="Times New Roman"/>
              </a:rPr>
              <a:t>第二节</a:t>
            </a:r>
            <a:r>
              <a:rPr b="0" lang="zh-CN" sz="3200" spc="-1" strike="noStrike">
                <a:solidFill>
                  <a:srgbClr val="90c226"/>
                </a:solidFill>
                <a:latin typeface="Arial"/>
              </a:rPr>
              <a:t>   </a:t>
            </a:r>
            <a:r>
              <a:rPr b="0" lang="zh-CN" sz="3200" spc="-1" strike="noStrike">
                <a:solidFill>
                  <a:srgbClr val="90c226"/>
                </a:solidFill>
                <a:latin typeface="Times New Roman"/>
              </a:rPr>
              <a:t> 票据法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     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一、票据法概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   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票据法就是规定票据种类、票据行为以及票据当事人权利义务等内容的法律规范的总称。票据法包括广义的和狭义的票据法。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二、西方各国的票据法（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1930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以前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（一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 法国法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（二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 德国法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（三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 英国法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zh-CN" sz="3600" spc="-1" strike="noStrike">
              <a:solidFill>
                <a:srgbClr val="90c226"/>
              </a:solidFill>
              <a:latin typeface="仿宋_GB2312"/>
              <a:ea typeface="仿宋_GB2312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rebuchet MS"/>
              </a:rPr>
              <a:t>三、统一票据法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404040"/>
                </a:solidFill>
                <a:latin typeface="仿宋_GB2312"/>
                <a:ea typeface="仿宋_GB2312"/>
              </a:rPr>
              <a:t>  </a:t>
            </a:r>
            <a:r>
              <a:rPr b="0" lang="zh-CN" sz="1900" spc="-1" strike="noStrike">
                <a:solidFill>
                  <a:srgbClr val="404040"/>
                </a:solidFill>
                <a:latin typeface="Trebuchet MS"/>
              </a:rPr>
              <a:t>（一）大陆法系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rebuchet MS"/>
              </a:rPr>
              <a:t>《统一汇票本票法公约》、《解决汇票本票法律冲突公约》和《汇票本票印花税法公约》《统一支票法公约》、《解决支票法律冲突公约》、《支票印花税法公约》。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rebuchet MS"/>
              </a:rPr>
              <a:t>  </a:t>
            </a:r>
            <a:r>
              <a:rPr b="0" lang="zh-CN" sz="1900" spc="-1" strike="noStrike">
                <a:solidFill>
                  <a:srgbClr val="404040"/>
                </a:solidFill>
                <a:latin typeface="Trebuchet MS"/>
              </a:rPr>
              <a:t>（二）大陆法系与英美法系的分歧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rebuchet MS"/>
              </a:rPr>
              <a:t>  </a:t>
            </a:r>
            <a:r>
              <a:rPr b="0" lang="zh-CN" sz="1900" spc="-1" strike="noStrike">
                <a:solidFill>
                  <a:srgbClr val="404040"/>
                </a:solidFill>
                <a:latin typeface="Trebuchet MS"/>
              </a:rPr>
              <a:t>（三）国际汇票和本票公约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rebuchet MS"/>
              </a:rPr>
              <a:t>四、我国票据法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imes New Roman"/>
              </a:rPr>
              <a:t>第三节</a:t>
            </a:r>
            <a:r>
              <a:rPr b="0" lang="zh-CN" sz="3600" spc="-1" strike="noStrike">
                <a:solidFill>
                  <a:srgbClr val="90c226"/>
                </a:solidFill>
                <a:latin typeface="Arial"/>
              </a:rPr>
              <a:t>   </a:t>
            </a:r>
            <a:r>
              <a:rPr b="0" lang="zh-CN" sz="3600" spc="-1" strike="noStrike">
                <a:solidFill>
                  <a:srgbClr val="90c226"/>
                </a:solidFill>
                <a:latin typeface="Times New Roman"/>
              </a:rPr>
              <a:t> 票据权利与票据抗辩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一、票据权利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（一）票据权利的概念和分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</a:rPr>
              <a:t>付款请求权和追索权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（二）票据权利的取得和行使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</a:rPr>
              <a:t>1.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票据权利的取得主要有两种方式，即 原始取得和继受取得。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</a:rPr>
              <a:t>2.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票据权利的行使，是指持票人请求票据债务人支付票据金额的行为。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3T08:52:15Z</dcterms:created>
  <dc:creator>LENOVO-T60</dc:creator>
  <dc:description/>
  <cp:keywords/>
  <dc:language>en-US</dc:language>
  <cp:lastModifiedBy>li carrie</cp:lastModifiedBy>
  <cp:lastPrinted>1899-12-30T00:00:00Z</cp:lastPrinted>
  <dcterms:modified xsi:type="dcterms:W3CDTF">2023-07-26T04:03:13Z</dcterms:modified>
  <cp:revision>2</cp:revision>
  <dc:subject/>
  <dc:title>第二章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