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A04-866E-40B3-94C1-1F3D2FDA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A24-2812-4700-AA48-45190A22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89D-5FD5-4C88-960D-FFC68B71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244-67F0-42FD-B51E-FB84A39C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0414-FA97-47AC-A36D-4480D1DB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1EE7-EC60-458B-AF50-B0D3315B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ADB1-544E-4570-B591-7D5D6989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4FB3-8C7C-41E7-807D-A4B82435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C41D-A9B7-470C-A4AB-F5A866A9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B07B-2BFA-4781-BB63-5C2223E0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C757-D3EB-4EB6-A9FA-23B7A196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3D99-AE19-41E5-B862-427A4004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B606-101C-4988-9080-17918898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3263-0430-4382-87DE-0E00036C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2735-1FBC-4F9F-9D17-910F4482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0332-9A2D-4F3C-8194-1B23A168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4D05-9A15-4F8B-9A4F-7213F758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BFE66-1AA2-433C-824F-AD1A4C84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CC0E-6DD1-40FA-8BF9-609E8B2C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B720B-C8D2-43DD-AE1F-290EFDEC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3360B-A3E0-4436-A424-F19B0B5E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09D0-88F9-436A-BECB-C9D01CB9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44A-EDAA-454F-9324-668D6DB7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BFF74-838F-47C9-B2C4-4A1F18C9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10C5D-4126-42BE-AC90-6BA29FBB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1EA26-5708-40D2-B80C-34D3C1A9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91A46-0C0B-4DDE-ABEA-0EA896EC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916DB-F492-4EE4-B27E-B1227C06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13AEC-7725-45F4-87BA-0AF2DB9D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39FF-7712-484A-BD52-A217DEB0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23D72-EED3-4D92-A5C7-722CB86C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30754-04A0-4B07-B589-7B0A615A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30E66-91E2-4596-A8B7-012509F2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4A2-404E-494C-BCF8-CA3B7F0B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BEF11-35AD-49E1-95AC-2C96A776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76EEA-C6FF-409C-A405-223951EA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4ACAE-79DB-4B66-BA40-5D1AE563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A5F8B-40F5-41E6-978F-97D5FE0F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F8139-B6D1-4533-84C6-5473CC14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AD4C3-3DFF-46AE-B5B7-6D84B599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00346-8D07-46E6-A18F-9AE33238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05DD8-4D0B-4303-A9D3-0EBF2684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DF1AC-F51D-44DC-BEC4-9EF003CC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D62-79D1-42E5-A031-72B01580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485-B057-4CFC-A775-375F9F8F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040-469A-4BD3-9D48-1A2EC4C0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F47-0D65-4673-8404-D71B99CE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1C1-9059-44D4-B5D2-9917178F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00F79-D35E-4792-8313-191EFE7671D2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D1467-0A7C-4D57-A4A1-9B21C24E7B98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6887A-07DF-41D8-A366-EA0E7EFC0ABE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41718-228F-41FD-A6AC-36BE47D01B83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四章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7f7f7f"/>
                </a:solidFill>
                <a:latin typeface="Times New Roman"/>
                <a:ea typeface="华文新魏"/>
              </a:rPr>
              <a:t>本票和支票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支票的保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付的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31320"/>
            <a:ext cx="876312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  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  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本票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本票的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是出票人作成的一项无条件的书面支付承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中国票据法定义： 见票即付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银行本票 （商业本票？）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941120"/>
            <a:ext cx="8537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必要项目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必要项目包括以下项目：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表示本票的字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无条件支付承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确定金额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收款人或者其指定人的名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日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人的签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本票与汇票行为的差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出票行为：出票人的义务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提示行为：提示期间的不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二节    支票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支票是无条件的书面支付命令，是一种以银行为付款人的即期汇票。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必要项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表示支票的字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一定金额的委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名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签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金额和空白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出票和空头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支票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般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特别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7:30:26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8:40Z</dcterms:modified>
  <cp:revision>10</cp:revision>
  <dc:subject/>
  <dc:title>第四章 本票和支票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