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C7E5-DF61-4B83-9F5A-A1767B6CE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DF0D-4DC5-42FF-9BB0-BF9F1AE0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53D5-EA7A-48BC-83C4-905A0B273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5A07-9DEB-4809-A723-0BB5CB087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5F3C-C0EA-4AC1-8735-FB73C7394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63AA-2B14-40D7-B3C4-3D24DEAE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41C9-DB8A-4F6D-86F2-EC1D2F92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53B3-B037-44BB-BD5D-CEFAE9F9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99BD-A3B6-4716-BD2D-568363CC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EF7F-BD02-4EC6-A09C-94BD03F7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1DBD-0DC7-47E7-8A83-7D00171E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66A9-9708-4134-8825-6C4F678F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CC49-DCB6-4BBF-8CCD-8852A1F4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96A4-69AA-4279-B47D-2F2D884F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22D4-8808-4FF0-8962-D9CDA25B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9A7D-75F9-457F-9721-E7CFF323F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169D-645D-417E-8523-62597520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24A77-9F1B-474F-9FE4-AD9A4B3DC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FD6A6-BAEE-4B8B-9BD6-71490F64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86B92-2D22-4C85-A1FB-3C6FF99F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ABD49-D9C2-4B3F-A184-7FCD2390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77CA6-05AF-4FB7-A59A-413B7C58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5D81-4202-4BD1-958E-747AA518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CBCF7-5EE9-43BB-9A9B-D784A454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17EDA-F27E-4179-ACD2-0F95D26E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8FEA8-01F1-46D2-BA7B-0F5903E2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81A8D-CA68-4AA4-A914-EA303888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47F36-8439-4129-AF0C-C0D0189B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FBA66-75C5-4EC5-B67A-E28F2A4AF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7A54E-D435-4C89-98EC-808B017B4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E7D88-D8F8-4978-A209-8FB0B01F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4C9D0-62E6-431F-BCF8-570A87A5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FCB5A-CD90-4B2C-A31E-671088B4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E39B-19C6-4129-9A3C-AAC0AB4C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3BD2A-8AD9-4406-859A-5FFE67A4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F9451-26CB-46FC-A3E2-FB70F480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D25A7-99E7-4E17-8B96-16E6F569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9E771-85EE-47E8-A7CA-2B569F32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DF5E3-810F-48F7-8717-94DFC748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BB520-D71A-4173-A9A6-ED5527AB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584FB-705A-44D3-9E4D-98C9E8C2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DE42D-8CE7-46F6-94E0-C8DCEC292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B91CA-F9C0-45C4-B68A-A35F40110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BA52-D2E0-4D92-B10A-39700436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9A1E-8644-434D-87D1-A6F15B63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D46A-FFE6-477D-A51F-BF1CA2FA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AD00-1238-445C-AC20-497E6EC6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80CF-85CF-4BCE-8B76-5BCF103F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234879-675E-4DEC-BB42-248AC0FE0010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D0A861-4BEE-4AB6-B6F9-91E66C7F9598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EFCEF4-FC09-42C2-B813-14B440ED238A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D5E33E-C90D-434E-81FA-6C8E78CAAA63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47280" y="1988640"/>
            <a:ext cx="545004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90c226"/>
                </a:solidFill>
                <a:latin typeface="Trebuchet MS"/>
                <a:ea typeface="方正姚体"/>
              </a:rPr>
              <a:t>   </a:t>
            </a:r>
            <a:r>
              <a:rPr b="0" lang="zh-CN" sz="5400" spc="-1" strike="noStrike">
                <a:solidFill>
                  <a:srgbClr val="90c226"/>
                </a:solidFill>
                <a:latin typeface="Trebuchet MS"/>
                <a:ea typeface="方正姚体"/>
              </a:rPr>
              <a:t>第三章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040" y="4051440"/>
            <a:ext cx="4521240" cy="11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Trebuchet MS"/>
                <a:ea typeface="华文新魏"/>
              </a:rPr>
              <a:t>汇票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某一特定事件发生后定期付款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a fixed time after the happening of a specified ev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。如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t 30days after bill of lading date pay to the order of 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出票地点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lace of issu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付款地点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lace of pay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任意记载事项，主要有：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担当付款行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 Banker designated as payer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(date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Bank Of Europ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(Signed)  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预备付款人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feree in case of need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To:  C Company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In case of need refer to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BC Company, 129 Buffee Street, Lond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免作退票通知或者放弃拒绝证书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ice of dishonor excused or Protest waived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ice of dishonor excused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A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   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(signed)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   无追索权（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Without recours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Without recourse to u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 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For A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(signed)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00000" y="320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三、汇票当事人及其权利义务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0666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基本当事人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出票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Draw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付款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Draw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收款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其他当事人：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背书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Endors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被背书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Endors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保证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Guaranto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参加承兑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or for hono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五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持票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Hold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正当持票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Holder in due cours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imes New Roman"/>
              <a:ea typeface="方正姚体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正当持票人的条件：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给付对价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善意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对票据逾期或者曾被拒绝承兑或付款，或者对任何人就票据提出的任何抗辨或者权利主张，均不知情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四、汇票的种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根据不同的标准，汇票可分为不同种类：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即期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Sight Bill or Demand Draft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和远期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Time Bill or Usance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光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Clean Bill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以及跟单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Documentary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   银行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Banker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’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s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和商业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Trader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’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s Bill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国内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Inland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和外国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eign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第二节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 </a:t>
            </a: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 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汇票的行为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一、票据行为概念与特征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狭义的票据行为与广义的票据行为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票据行为具有要式性、无因性、文义性和独立性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二、汇票的出票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Issu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三、汇票的背书（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背书的概念和法律效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背书的种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（三）   背书的伪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特别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Special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D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B Company, Shanghai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空白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Blank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9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第一节</a:t>
            </a:r>
            <a:r>
              <a:rPr b="0" lang="zh-CN" sz="3200" spc="-1" strike="noStrike">
                <a:solidFill>
                  <a:srgbClr val="90c226"/>
                </a:solidFill>
                <a:latin typeface="Arial"/>
                <a:ea typeface="方正姚体"/>
              </a:rPr>
              <a:t>   </a:t>
            </a:r>
            <a:r>
              <a:rPr b="0" lang="zh-CN" sz="32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 汇票的概念和必要项目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一、汇票的概念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二、汇票的必要项目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三、汇票当事人及其权利与义务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四、汇票的种类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限制性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strictive   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D Company on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B Company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(signe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附有条件的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Conditional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D Company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On delivery of Bill of lading Nol23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B Company            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宋体"/>
                <a:ea typeface="华文新魏"/>
              </a:rPr>
              <a:t>              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）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委托收款背书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Endorsement for collection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ollection pay to the order of Bank of China ,Shanghai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ank of China ,Shanghai for deposit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ank of China ,Shanghai value in collection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6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设质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Endorsement in pledg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7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回头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verse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又称还原背书或逆背书，是以票据债务人为被背书人的转让背书。如：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签发一张以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B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为收款人的汇票，该汇票出票后的流通转让如下表所示：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四、汇票的提示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resentment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五、汇票的承兑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anc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普通承兑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26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（二）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 限制性承兑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条件的承兑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Conditional acceptanc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18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on delivery of bills of la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）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部分承兑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rtial acceptanc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18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for amount of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￡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500 on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限制地点的承兑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Local acceptanc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18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the Bank of Europe ,London and there on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延长付款时间的承兑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Qualified acceptance as to tim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18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ninety days after sigh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）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六、汇票的付款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七、汇票的退票、退票通知和拒绝证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退票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Dishonor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退票通知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ice of Dishonor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拒绝证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rotes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一、</a:t>
            </a:r>
            <a:r>
              <a:rPr b="0" lang="zh-CN" sz="2400" spc="-1" strike="noStrike">
                <a:solidFill>
                  <a:srgbClr val="404040"/>
                </a:solidFill>
                <a:latin typeface="Trebuchet MS"/>
                <a:ea typeface="华文新魏"/>
              </a:rPr>
              <a:t>汇票的概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Trebuchet MS"/>
                <a:ea typeface="华文新魏"/>
              </a:rPr>
              <a:t>票据，就是指出票人签发的，无条件的承诺由自己或委托他人支付一定金额的有价证券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八、汇票的追索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cours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九、汇票的参加承兑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ance for honor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 FOR HONOR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Of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B   Company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9</a:t>
            </a:r>
            <a:r>
              <a:rPr b="0" lang="zh-CN" sz="26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, July,2o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K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      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十、汇票的保证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Guarante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MENT GUARANTEED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account of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Signed by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Dated on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绝对必要项目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汇票字样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Bill of exchang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无条件支付命令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Unconditional order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in our No.I account the sum of one thousand pounds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provided the goods the supply are complied with contract the sum of one thousand pounds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确定的金额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mount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带有利息记载的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the sum of one thousand pounds plus interest calculated at the rate of 3% per annum from the date hereof to the date of payment.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带有分期付款记载的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the sum of one thousand pounds by ten equal consecutive monthly installments.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带有支付其他货币记载的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the sum of one thousand pounds converted into US dollar at current rate of exchange.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。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付款人的名称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Name of draw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五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收款人名称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Name of pay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限制性抬头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strictive ord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only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，或者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 Company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，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 Transferable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指示性抬头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Demonstrative Ord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 Company or order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 Company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来人抬头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Bearer Order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earer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 Company or bearer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六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出票日期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Date of issu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宋体"/>
                <a:ea typeface="华文新魏"/>
              </a:rPr>
              <a:t>（七）出票人签章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Drawer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’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s signature</a:t>
            </a:r>
            <a:r>
              <a:rPr b="0" lang="zh-CN" sz="1800" spc="-1" strike="noStrike">
                <a:solidFill>
                  <a:srgbClr val="404040"/>
                </a:solidFill>
                <a:latin typeface="宋体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票据上的相对必要项目，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付款日期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Tenor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汇票是信用工具，其付款期限有两种，即期和远期。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即期：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t sight pay to the order of  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On demand pay to the order of  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On presentation pay to the order of  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远期：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定期付款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on a fixed future dat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。如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On 20</a:t>
            </a:r>
            <a:r>
              <a:rPr b="0" lang="zh-CN" sz="26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,July 20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××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pay to the order  of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；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出票后定期付款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a fixed time after dat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。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t 30 days after date pay to the order of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；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见票后定期付款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a fixed time after sight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。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t 30 days after sight pay to the order of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；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08:19:14Z</dcterms:created>
  <dc:creator>chen xiaolong</dc:creator>
  <dc:description/>
  <cp:keywords/>
  <dc:language>en-US</dc:language>
  <cp:lastModifiedBy>li carrie</cp:lastModifiedBy>
  <cp:lastPrinted>1899-12-30T00:00:00Z</cp:lastPrinted>
  <dcterms:modified xsi:type="dcterms:W3CDTF">2023-07-26T04:07:32Z</dcterms:modified>
  <cp:revision>25</cp:revision>
  <dc:subject/>
  <dc:title>第三章        汇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