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A11-D849-4D07-8B67-A1B428212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E3F6-C1ED-4F55-97EA-B77D81DF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4F0-FBDD-4BF2-8485-BA18859E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D274-EE1F-4061-BABE-B62924B3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E15F-3F55-4504-9E78-F05F62AD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0B06-89D0-4639-8E73-4693088F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AD12-20E5-4C28-9043-68C9D56A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69E1-D1E2-4E55-89E4-23423B3C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3AA1-EAF8-4F2B-8FE2-A3D9B2AE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0757-591E-4073-B156-59E47062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2056-1C9F-45BF-B5F7-A4BC2150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A7F-D736-4C92-9A71-854F6276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BF6D-E998-4565-80AC-73627DEA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16B0-9359-4BDB-8C58-7C4E87FC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6073-4F45-4862-AFCC-CA4D30EA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1E50-3085-4ADD-BD29-39DCE4D5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7FEB-C86C-403A-A133-BE85184C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34E-B27F-4597-9CF0-04C50DE1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1C4D-7AF2-4038-8F27-4A345D5B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7C2F-2FD2-418B-AD06-2FBF8E20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255-7564-46A8-95F7-DC2FD522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C5B-0971-4721-9915-F64922F0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49A-B54A-458D-87C7-14E1BEAC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37B-B209-4BFB-B8F0-5CA919B1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9937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任意多边形 39938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任意多边形 39939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任意多边形 39940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圆角矩形 3994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DF2E-1DB7-40E6-AF9B-68637DB039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40961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任意多边形 40962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任意多边形 40963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任意多边形 40964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圆角矩形 4096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9CF5-1702-41AF-8310-BCE740A0271B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六章   保险投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实物资产投资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最主要的是不动产投资，也包括一些机械设备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我国保险投资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01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年《保险资金运用管理办法》明确规定保险资金运用限于下列形式： （一）银行存款； （二）买卖债券、股票、证券投资基金份额等有价证券； （三）投资不动产； （四）投资股权； （五）国务院规定的其他资金运用形式。 保险资金从事境外投资的，应当符合中国保监会、中国人民银行和国家外汇管理局的相关规定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第四节 保险投资主体模式的选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公司内设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委托专业的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专业化保险资产管理公司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保险投资风险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政府对保险业投资风险的监管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对保险投资范围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对保险投资比例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对投资资产与负债的配比关系的限制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对金融衍生工具的使用限制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公司对投资风险的管理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制定合理的投资策略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资产分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投资组合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资产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析保险投资的资金来源和性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一般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特殊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我国保险投资的主要方式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监管机构应从哪些方面加强对保险公司投资风险的管理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应该如何制定保险投资策略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何选择证券组合可以降低非系统性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利率免疫技术？保险公司如何运用利率免疫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术防范债券投资的利率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投资的资金来源与性质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保险投资资金的来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自有资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本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积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负债资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寿险未到期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赔款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储金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存入分保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责任准备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资金的性质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负债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稳定性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性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保险投资的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投资的一般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收益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流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的特殊条件约束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称性条件约束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替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转移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衡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第三节   保险投资的形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金融资产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债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债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贷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股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cp:keywords/>
  <dc:language>en-US</dc:language>
  <cp:lastModifiedBy>苏菲的小猫</cp:lastModifiedBy>
  <dcterms:modified xsi:type="dcterms:W3CDTF">2020-05-25T05:50:13Z</dcterms:modified>
  <cp:revision>23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4</vt:lpwstr>
  </property>
</Properties>
</file>