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604D-20A3-4250-A23F-83129498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D041-7F76-4083-8E48-CD7A4607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FFDC-0CE4-4B40-8DF6-9387D9DE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873E-E20B-49DB-88AB-A7D4CA0F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62EC-34FF-47F3-A960-B46DB81D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4E92-96F8-4478-950E-0FA61DB8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4905-1C3D-4922-9CDB-22E6A3A5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AC4A-2092-4864-8CE8-8CB1EE1D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4415-35EF-49C5-A1D8-A7644481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AE9F-BA91-4DBE-B299-306677BA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072E-185D-405B-BEE3-896E88BC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F5C1-A18B-48F1-A19B-DA3296DB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D861-F288-45EB-8815-94D0FC6D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BBA1-5ADF-4031-91D5-5E978E6A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131C-11F2-4503-B4FD-6BDEE978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2CA5-238D-481E-A812-F5327ECB5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BFFA-CB46-4F8B-BAD6-24E252A2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8018-6BC8-4FFB-92EB-BA9AB737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E66A-C40D-4C31-A9BD-824C80B3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48ED-0984-4480-AC0C-A0BD88BD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A6F2-7A73-4290-84B2-A7AA51B8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C240-15AF-45B4-8259-DEA90063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7EFE-D927-4454-9885-7D906908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909D-AE08-445A-8054-1DC7C959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CA8B-8AAB-42CA-85C6-F7A1646DE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114D-143A-478A-BB82-46334A77BFC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www.sufep.com/bookspic/978-7-5642-1415-9.F.14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二节  保险公司的经营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外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自然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人口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经济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政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五）社会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六）文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七）市场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经营的内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劳动者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经营技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资金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信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三节  保险公司的经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一般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经济核算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随行就市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薄利多销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的特殊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风险大量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风险选择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风险分散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四节   保险公司的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理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效益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信息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长期目标、中期目标和近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中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近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、公司利益目标和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司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、持续发展目标和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持续发展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第一章  保险公司经营导论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个目标之间的关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公司的经营管理部门，应当将财务稳定性目标、持续发展目标、盈利目标有机地结合起来，正确处理好三者的关系，在强调保证财务稳定性目标的基础上，对发展速度目标和盈利目标加以适当的平衡，否则利润和发展就成为无源之水、无本之木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复习思考题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  实际费率   监管费率  纯费率  附加费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寿险费率厘定的要素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公司经营的内部环境和外部环境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经营的特殊原则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从保险公司财务管理的角度分析保险经营的目标以及相互关系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一节  保险经营的商品属性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商品的使用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稳定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经济助动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管理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商品的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用保险费形式表示，保险商品的价值为纯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R+L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附加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C+V+M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商品的特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无形的商品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渴求商品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的消费是一种隐型消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商品的价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费率的种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际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管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财产保险费率的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判断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增减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财产保险费率多采用分类法和增减法来厘定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人寿保险费率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以下三个基本要素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死亡率或生存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利息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营业费用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的其他要素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退保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红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残废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保单中嵌入的各种选择权被保单持有人行使的概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09:04Z</dcterms:modified>
  <cp:revision>21</cp:revision>
  <dc:subject/>
  <dc:title>没有幻灯片标题</dc:title>
</cp:coreProperties>
</file>