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D2D-4488-44E2-A974-D24DC478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648-0F33-4C07-8AAC-9BE6B56C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C4E4-2A8E-4C3B-A239-E4447903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617C-22CB-46E0-A9AC-7591D64E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A5A1-D091-4CAB-BDF2-FFEC50C8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210B-A17A-4DB7-85EA-88F306E6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7D15-2BF6-4559-B4A8-A0D66FEF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774C-EF63-40DE-B9C2-FEEBD14A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1BBF-9B80-420D-BB26-FD2CFFA8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7BE5-1674-4BF0-A5FC-C9D58DCD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BB9C-2CA5-45E5-8C4F-F07E584E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E77B-2FFD-46AE-BEAA-FE4CBEA6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DC7B-DD5C-41DA-B792-23AAFAFE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B09F-EA53-4230-BE42-5003683C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8C5F-864D-4062-B5CD-9FB2195B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E50F-905B-4E27-B4EB-6B128366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80C5-3FC7-4EF3-A12D-8D32E358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C9B-AB68-403B-9E2E-4AE5135A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349E-E0EB-4E3E-A47E-05BE6008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06DB-1169-4ACC-BA6D-4BB08A35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2AD-AE9B-4BBF-84D1-523D993B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0DC2-40B3-4704-B7DE-994E7598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B706-A954-4744-A4FA-12B673B0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0F0C-B0A3-43DF-8F6D-70FF6C7E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BB0C-31A5-489F-99F5-13DFB0EDB35D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2F57-7449-487E-BCFA-2D6A1B3E67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A747-FD02-42F8-AB86-44B988F3C1B1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3B01-2A02-4868-A653-A54F292DB8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B471-A48E-43AD-9A4F-61D79D298B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86800" cy="17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0000"/>
                </a:solidFill>
                <a:latin typeface="黑体"/>
                <a:ea typeface="黑体"/>
              </a:rPr>
              <a:t>第十二章  消费者的品牌心理与行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332000" y="2565360"/>
            <a:ext cx="66960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 品牌的内涵与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 品牌心理的形成机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 消费者的品牌购买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 增强消费者的品牌偏好与忠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E376-5D4E-4BFD-BFB6-550C848EE5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心理作用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413000"/>
            <a:ext cx="7570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认知过程是指消费者认识、了解、确信并接受品牌的过程，是品牌发生作用的心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4356000" y="981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39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品牌的心理效应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差异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光环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魅力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附加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69200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在消费者购买行为中的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品牌转换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27CA-7B79-4B4F-97B4-8F0743CB72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179280" y="260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 消费者的品牌购买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在消费者购买行为中的作用</a:t>
            </a:r>
            <a:br>
              <a:rPr sz="36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3280" y="2133360"/>
            <a:ext cx="7283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寻找解决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评价比较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购后评价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855B-E579-44F9-AD5C-87693C7762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438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品牌转换行为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9805-D1F0-47CE-A124-05AB45EE35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1341000"/>
            <a:ext cx="7726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消费者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卷入程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产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特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企业营销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市场竞争结构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 增强消费者的品牌偏好与忠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忠诚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忠诚形成的心理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增强消费者品牌忠诚的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65B0-34A2-42BE-B435-67679F957F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FEDA-11FB-425A-A2FC-68593CAD85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忠诚的概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behavior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attitudin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忠诚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非随机的，有倾向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有行为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较长时间内持续表现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某些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某品牌集合中的一个或多个特定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决策、评价等心理过程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8CF9-CB48-42FD-9F8D-A53EE9887D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217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忠诚形成的心理机制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116000" y="1989000"/>
            <a:ext cx="1657440" cy="71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3" y="0"/>
                </a:lnTo>
                <a:lnTo>
                  <a:pt x="21600" y="10800"/>
                </a:lnTo>
                <a:lnTo>
                  <a:pt x="138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132000" y="1987560"/>
            <a:ext cx="1656000" cy="720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3" y="0"/>
                </a:lnTo>
                <a:lnTo>
                  <a:pt x="21600" y="10800"/>
                </a:lnTo>
                <a:lnTo>
                  <a:pt x="14843" y="21600"/>
                </a:lnTo>
                <a:lnTo>
                  <a:pt x="0" y="21600"/>
                </a:lnTo>
                <a:lnTo>
                  <a:pt x="675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态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292720" y="2060640"/>
            <a:ext cx="1368360" cy="720720"/>
          </a:xfrm>
          <a:prstGeom prst="flowChart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行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3280" y="3357720"/>
            <a:ext cx="5400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EA05-CCD6-4FD4-A5B5-45FB7636D4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47640" y="2276640"/>
            <a:ext cx="7221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消费者的品牌意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产品与服务品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品牌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用品牌联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品牌转换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001000" cy="12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增强消费者品牌忠诚的措施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 品牌的内涵与构成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定义及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6DCD-F33D-4220-BC59-4F606350E7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915920"/>
            <a:ext cx="7643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DEAB-A825-4F09-9AB1-9EB0757FFB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53EA-016C-4211-97E6-75B96518B4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识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产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符号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是人类消费发展的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物质载体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内容是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对象是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0213-9882-4BEB-81AD-4EB486EA80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显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性要素是品牌展现在外的、具体的，消费者可以直接感知的成份，主要指品牌及其所标定产品的名称、标识、包装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名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BA23-C3DD-42F0-9B18-6BD9CCCFCF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中不能被直接触摸和感觉到的就被称为品牌的隐性要素，它是 存在于品牌整个形成过程的核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承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体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 品牌心理的形成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心理作用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心理作用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品牌的心理效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C301-2506-4B24-B9E6-3113B8A168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20F3-7D4F-4E9D-9877-CD815C1A40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47628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心理作用基础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36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00280"/>
            <a:ext cx="6716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象征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个性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价值的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924360" y="119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8:20:57Z</dcterms:created>
  <dc:creator>jianglin</dc:creator>
  <dc:description/>
  <dc:language>en-US</dc:language>
  <cp:lastModifiedBy>Administrator</cp:lastModifiedBy>
  <dcterms:modified xsi:type="dcterms:W3CDTF">2015-09-03T09:22:45Z</dcterms:modified>
  <cp:revision>114</cp:revision>
  <dc:subject/>
  <dc:title>PowerPoint 演示文稿</dc:title>
</cp:coreProperties>
</file>