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FC7-7833-4B6C-9B36-55AFD984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590-5500-42AE-9B4A-406A72F5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B3D-35CE-4995-90A8-92704316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A33-722E-4E9B-9C73-87327794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C8ED-A4A9-4CEC-930C-4539C744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5D4C-08C4-4D63-9104-36E49052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2242-9853-4913-A0BD-F076DE04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01E4-59CB-4BFC-9177-D5B23A68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1BED-276B-4B7B-B77A-BBAEA4FD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EC4C-10FF-4FCA-BA66-09AB4E08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5034-151B-41AA-A2A7-388A8339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F65-5A2A-45FC-930B-A33C059E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3389-8F24-4103-8A2A-28BC23EC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D677-B041-4371-BF50-3ED05276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0248-5498-4702-AB0A-9E6AB15D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9112-5DD4-48FC-8C59-20968196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0DB5-2EF2-4B48-9D2B-A0B06948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189-BEB1-48A0-A853-A761347A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8A2-C077-4A96-895E-83F77187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3DC-99B2-4E0C-B305-3A165E58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A6F-9DA9-48B0-AB17-C991B2CF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668-0283-4E90-9D9A-CABFE9D8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791-BCA7-4875-84D6-B70EDECB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7FF-0E45-4565-81F5-D9303D0D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41AA-F416-4935-A474-0611DEDA99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A9B1-E062-4125-891F-A05ADECA2BF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四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1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国际战略联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1636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含义、性质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理论解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的发展与现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2.1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价值链的解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是一个综合设计、生产、销售、运送和管理等活动的集合体，其价值创造过程是各个环节不同而相互关联的“价值链”。通过国际战略联盟，在不同价值链环节形成联盟比价值链“包络”于一个企业边界内更加有利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网络理论的解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认为网络型企业结构优于层级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现资源共享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分利用闲置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弥补资源不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保证投入产出全过程的”节约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管理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企业竞争力的不完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施企业战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竞争战略、产品差异优势战略、细分市场战略），从而在“单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盟”中作出选择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。资源依附学说：母国和东道国企业资源不平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的选择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稳定性与联合效应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.2.1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国际战略联盟的选择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假定企业获得某种关键产品有三种选择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内部化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外部市场采购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建立联盟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建立联盟的边界决定于三个变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联盟机会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AC)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企业内部化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IC)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和技术复杂程度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K)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技术复杂程度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K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越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AC&gt; IC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随着技术水平提高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I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增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其递增速度快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的递增速度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设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G=AC-IC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令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=AC’-IC’(AC’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联盟中的合作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IC’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企业自行研制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, △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的减函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技术越复杂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自行研制代价越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联盟总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AC=AC+AC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企业自行研制总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IC=IC+IC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AC= △TI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即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= △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形成均衡的国际战略联盟边界点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(K’); △TAC&lt;△TI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即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=&lt;△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国际联盟边界扩大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反之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内部化边界扩大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国际战略联盟边界模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076720" y="3068280"/>
            <a:ext cx="0" cy="280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076720" y="5877000"/>
            <a:ext cx="324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5292720" y="4437000"/>
            <a:ext cx="86364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6012000" y="3357720"/>
            <a:ext cx="1512720" cy="259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Freeform 9"/>
          <p:cNvSpPr/>
          <p:nvPr/>
        </p:nvSpPr>
        <p:spPr>
          <a:xfrm>
            <a:off x="5518080" y="3243240"/>
            <a:ext cx="2801880" cy="2468520"/>
          </a:xfrm>
          <a:custGeom>
            <a:avLst/>
            <a:gdLst>
              <a:gd name="textAreaLeft" fmla="*/ 0 w 2801880"/>
              <a:gd name="textAreaRight" fmla="*/ 2802240 w 2801880"/>
              <a:gd name="textAreaTop" fmla="*/ 0 h 2468520"/>
              <a:gd name="textAreaBottom" fmla="*/ 2468880 h 2468520"/>
            </a:gdLst>
            <a:ahLst/>
            <a:rect l="textAreaLeft" t="textAreaTop" r="textAreaRight" b="textAreaBottom"/>
            <a:pathLst>
              <a:path w="1765" h="1555">
                <a:moveTo>
                  <a:pt x="12" y="32"/>
                </a:moveTo>
                <a:cubicBezTo>
                  <a:pt x="34" y="108"/>
                  <a:pt x="0" y="0"/>
                  <a:pt x="35" y="80"/>
                </a:cubicBezTo>
                <a:cubicBezTo>
                  <a:pt x="53" y="121"/>
                  <a:pt x="49" y="125"/>
                  <a:pt x="83" y="158"/>
                </a:cubicBezTo>
                <a:cubicBezTo>
                  <a:pt x="102" y="225"/>
                  <a:pt x="72" y="133"/>
                  <a:pt x="114" y="206"/>
                </a:cubicBezTo>
                <a:cubicBezTo>
                  <a:pt x="119" y="215"/>
                  <a:pt x="118" y="227"/>
                  <a:pt x="122" y="237"/>
                </a:cubicBezTo>
                <a:cubicBezTo>
                  <a:pt x="132" y="264"/>
                  <a:pt x="145" y="292"/>
                  <a:pt x="161" y="316"/>
                </a:cubicBezTo>
                <a:cubicBezTo>
                  <a:pt x="164" y="334"/>
                  <a:pt x="165" y="353"/>
                  <a:pt x="169" y="371"/>
                </a:cubicBezTo>
                <a:cubicBezTo>
                  <a:pt x="171" y="379"/>
                  <a:pt x="176" y="387"/>
                  <a:pt x="177" y="395"/>
                </a:cubicBezTo>
                <a:cubicBezTo>
                  <a:pt x="178" y="402"/>
                  <a:pt x="189" y="522"/>
                  <a:pt x="193" y="537"/>
                </a:cubicBezTo>
                <a:cubicBezTo>
                  <a:pt x="196" y="546"/>
                  <a:pt x="205" y="552"/>
                  <a:pt x="209" y="561"/>
                </a:cubicBezTo>
                <a:cubicBezTo>
                  <a:pt x="216" y="576"/>
                  <a:pt x="222" y="592"/>
                  <a:pt x="225" y="608"/>
                </a:cubicBezTo>
                <a:cubicBezTo>
                  <a:pt x="227" y="621"/>
                  <a:pt x="226" y="636"/>
                  <a:pt x="232" y="648"/>
                </a:cubicBezTo>
                <a:cubicBezTo>
                  <a:pt x="252" y="693"/>
                  <a:pt x="299" y="754"/>
                  <a:pt x="335" y="790"/>
                </a:cubicBezTo>
                <a:cubicBezTo>
                  <a:pt x="390" y="947"/>
                  <a:pt x="568" y="1041"/>
                  <a:pt x="722" y="1058"/>
                </a:cubicBezTo>
                <a:cubicBezTo>
                  <a:pt x="784" y="1080"/>
                  <a:pt x="783" y="1129"/>
                  <a:pt x="832" y="1145"/>
                </a:cubicBezTo>
                <a:cubicBezTo>
                  <a:pt x="858" y="1170"/>
                  <a:pt x="890" y="1216"/>
                  <a:pt x="919" y="1239"/>
                </a:cubicBezTo>
                <a:cubicBezTo>
                  <a:pt x="945" y="1259"/>
                  <a:pt x="972" y="1276"/>
                  <a:pt x="998" y="1295"/>
                </a:cubicBezTo>
                <a:cubicBezTo>
                  <a:pt x="1034" y="1322"/>
                  <a:pt x="1088" y="1318"/>
                  <a:pt x="1124" y="1342"/>
                </a:cubicBezTo>
                <a:cubicBezTo>
                  <a:pt x="1158" y="1364"/>
                  <a:pt x="1180" y="1392"/>
                  <a:pt x="1219" y="1405"/>
                </a:cubicBezTo>
                <a:cubicBezTo>
                  <a:pt x="1233" y="1415"/>
                  <a:pt x="1252" y="1418"/>
                  <a:pt x="1266" y="1429"/>
                </a:cubicBezTo>
                <a:cubicBezTo>
                  <a:pt x="1323" y="1473"/>
                  <a:pt x="1234" y="1436"/>
                  <a:pt x="1313" y="1460"/>
                </a:cubicBezTo>
                <a:cubicBezTo>
                  <a:pt x="1329" y="1465"/>
                  <a:pt x="1361" y="1476"/>
                  <a:pt x="1361" y="1476"/>
                </a:cubicBezTo>
                <a:cubicBezTo>
                  <a:pt x="1433" y="1525"/>
                  <a:pt x="1493" y="1530"/>
                  <a:pt x="1582" y="1539"/>
                </a:cubicBezTo>
                <a:cubicBezTo>
                  <a:pt x="1625" y="1550"/>
                  <a:pt x="1765" y="1555"/>
                  <a:pt x="1621" y="1555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12964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829800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8179920" y="532116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06600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145640" y="5608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021360" y="30160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.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稳定性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问题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的紧密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资联盟稳定期不长的原因探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了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联盟的稳定性问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联盟的不稳定的原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国际联盟面对的不确定性环境来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稳定性决定于可能产生的报酬或风险的性质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程度和分散情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合作的目的来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大程度上是为取得使各方互惠互利的技术和资源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旦一方的技术和能力隐藏在复杂的合作组织过程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难被学习和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而另一方技术和能力较为清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易于学习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这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方合作者不仅能够学习模仿对方的技术和能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而且能够保护自身的技术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终会抛弃另一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独自享有合作所带来的收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.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联合经济效应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联盟的联合经济效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若干企业组织采取跨国联合协作的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可以充分利用企业组织外部的”共享”要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挥各自异质技术优势和管理经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辅相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而形成一种新的国际竞争优势和新的利益源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联盟的联合经济效应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来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竞争中的合作与矛盾的协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超企业边界的资源再配置效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降低交易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水平技术的加速开发和联合利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市场的快速进入和先行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竞争性和垄断性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行的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力型跨国公司的全球生产经营体系所构建的全球网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了竞争性和垄断性并存的市场网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学界观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自由主义学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芝加哥学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观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于跨国公司的干预限于维持竞争环境的需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即只是在竞争遭到破坏情况下实施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业政策学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张能够促进资源向本国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应当鼓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即只要符合国家利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不应当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结构学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张如果市场结构因战略联盟出现高度集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例如寡头垄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支配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竞争受到损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社会福利损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需要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国际战略联盟的现状与发展态势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战略联盟的现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早的跨国公司战略联盟出现于汽车工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早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美国福特汽车公司和日本马自达汽车公司结成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19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的国际战略联盟开始规模化发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主要集中于重型机械和汽车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后结成战略联盟的行业集中于竞争激烈的半导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电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生物工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汽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仪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航运和银行等资本技术密集型行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覆盖从科研开发到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销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服务的全过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的分布状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行业分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汽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航空航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计算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电气等为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盟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首先是一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开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营销中某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联盟比重最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次是涉及两个环节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次是三个环节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家与地区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和日本三大经济体企业的战略联盟居于主导地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所谓”大三角模式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的演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经营能力和经营资源的不均等向对等关系转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呈企业群与网络化发展态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达国家和发展中国家企业之间建立的战略联盟呈增长趋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科技产业大公司的国际战略联盟更加活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知识的流动从单向转向多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战略联盟含义、性质与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战略联盟含义与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trategic Alliances of Transnational Corporation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又称为公司间协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nter-firm Agreement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或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nternational Strategic Alliances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是指两个或两个以上的跨国公司为实现某一或若干战略目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以签定长期或短期契约而建立的局部性互相协作、彼此互补的合伙、合作、联合关系，目的在于“通过外部合伙关系而非内部增殖来提高企业的经营价值”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跨国公司战略联盟具有以下特征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是自发的，而非强制性的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各方保持本公司经营管理的独立性和完全自主经营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彼此通过各种协议，结合成一个松散联合体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合作形式灵活、多样，如联合生产、联合采购、联合研发、市场划分（实现柔性竞争，避免两败俱伤）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战略联盟的性质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柔性竞争性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行业市场内的竞争从原来的单个企业之间的竞争转化为合作式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Collective Competition)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参与合作竞争的企业可以获得合作分工和风险分散的利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形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分工合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盟中的企业从事最擅长领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共存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盟将各个企业联合成”企业群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合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互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共存为特征的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选择组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有选择地与竞争对手分享机会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信息和技术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创新性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战略联盟避免跨国公司因组织规模扩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机构膨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僵化导致的官僚化与低效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战略联盟能够绕开关税和贸易保护主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避免反垄断法对企业规模过大的制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信息传递方式由”一对多”到”多对多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企业组织形式从金字塔式向水平化发展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每一个联盟”成员”的业绩不仅取决于自身能力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也取决于联盟企业群的能力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战略联盟的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联盟企业的主体地位来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互补型联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常见于发达国家的跨国公司之间形成的优势互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合作领域包括技术研发、加工过程、营销服务等，如德国戴姆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奔驰公司与日本松下公司共同研制自动汽车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接受型联盟，也称互惠联盟。常见于经济体制和发展水平不同的国家之间，目的是为了绕开市场进入壁垒的一种战略选择，合作形式为合资、合作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联盟企业的产业合作方向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横向战略联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Horizontal Strategic Alliances)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同一产业的企业共同生产、合作开发、联合销售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纵向战略联盟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ertical Strategic Alliances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不同行业的企业形成投入产出关系的联盟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混合战略联盟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iscellaneous Strategic Alliances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企业间即使没有任何产品或市场联系，而为了扩大企业自身结构，实现多角化经营的联盟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联盟企业之间的结合程度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股权式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等占有型联盟。对共同合资生产和经营的项目占有对等股权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互持股型联盟。长期相互持有对方股份，形成良好合作关系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契约式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研究与开发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市场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订单生产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互资源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交叉特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按照联盟所在价值链位置不同划分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补缺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上游企业与下游企业结成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营销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用对方的销售环节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研制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知识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洛兰杰的国际战略联盟分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219640" y="2997360"/>
            <a:ext cx="295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219640" y="2997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5219640" y="357336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8244000" y="2997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588000" y="2997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148360" y="299736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上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研发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制造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063920" y="3067200"/>
            <a:ext cx="10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下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销售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5292720" y="530064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5292720" y="5300640"/>
            <a:ext cx="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5292720" y="616572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8459640" y="530064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6877080" y="5300640"/>
            <a:ext cx="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343480" y="5443560"/>
            <a:ext cx="138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上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研发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制造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7279920" y="5516640"/>
            <a:ext cx="10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下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销售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5580000" y="3645000"/>
            <a:ext cx="0" cy="165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7956720" y="357336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 flipH="1">
            <a:off x="6084360" y="3573360"/>
            <a:ext cx="136692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5940360" y="3573360"/>
            <a:ext cx="1511280" cy="180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5436360" y="3821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合研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680520" y="4299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补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524720" y="37227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营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资源结合方式的不同划分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Peter J.Buckley, Mark Casson(1996),”An Economic Model of International Joit Venture Strategy”, Journal of International Business Studies,Special Issue,pp.852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32000" y="3141720"/>
          <a:ext cx="7127640" cy="3257640"/>
        </p:xfrm>
        <a:graphic>
          <a:graphicData uri="http://schemas.openxmlformats.org/drawingml/2006/table">
            <a:tbl>
              <a:tblPr/>
              <a:tblGrid>
                <a:gridCol w="1782720"/>
                <a:gridCol w="1838160"/>
                <a:gridCol w="1725840"/>
                <a:gridCol w="178092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  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和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类型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进入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进入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进入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在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上进行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提供技术用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和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进入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提供技术用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进入双方市场中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的性质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集中式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过协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目标明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集中于一项主要活动或功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综合式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涉及价值链上各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范围广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的资产注入情况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资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方作为股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共同创立独立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协作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成员数量的多少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伙伴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两个成员企业组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财团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多个伙伴围绕同一目标组成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核心企业群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个企业处于中心地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他企业”加盟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关于国际战略联盟产生与形成动因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协调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technical Coordination thesis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通过制度性安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达成协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避免市场无效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企业间技术专利的互换交易安排等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.B.Richardson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权力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market power Thesis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认为国际战略联盟不过是垄断企业相互勾结共同控制价格、谋取垄断租金的一种市场卡特尔。并认为它可能阻碍学习和技术创新，相对于“内部化”只是一种“次佳选择”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交易成本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transaction Costs Thesis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：认为企业选择内部化资源配置、外部化市场交易还是国际战略联盟决定于交易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成本。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战略联盟可以视为由一系列技术、组织机构及区位特定因素决定的有效交易方式选择之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O.E.Williamson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技术创新论：首先，联合研发，迅速积累知识，形成竞争优势；其次，研发高风险分担和资源共享；再次，产品生命周期缩短，削弱独占技术租金的能力，客观要求转变竞争策略，在研发中合作，在生产、销售领域中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D.Teece, C.Antonelli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03:02:35Z</dcterms:created>
  <dc:creator>YPL</dc:creator>
  <dc:description/>
  <dc:language>en-US</dc:language>
  <cp:lastModifiedBy>Microsoft 帐户</cp:lastModifiedBy>
  <dcterms:modified xsi:type="dcterms:W3CDTF">2025-10-10T06:48:03Z</dcterms:modified>
  <cp:revision>34</cp:revision>
  <dc:subject/>
  <dc:title>6.跨国公司经营策略(1)—国际战略联盟</dc:title>
</cp:coreProperties>
</file>