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49A6-3D3F-4E73-BA32-7E8A25CD4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9374-C9B9-4BA0-A2E6-ECEE44E79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BA0A-0DD8-4C64-9398-D33E6165F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8EB7-88FA-45F1-B91A-9FCAB4A98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ED5F3-9427-48D9-8ECD-99F6BAB8A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A6F17-ADCC-4F8C-98D2-E94155DD9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9CC41-88A5-4E6D-82D8-DBA970BB7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12DAB-5D00-4DF2-BED6-8756D6AD1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6BF19-B33B-45F8-97BF-8C7353F17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3636E-3F45-4B42-9A1B-0D76DEB3A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EABB3-D9D5-4D21-A102-238B6058A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1D23-5582-47A1-B68C-C58C10565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FF87C-9C95-406A-B6D7-755DEC323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E3FE3-74D1-4442-82DA-0ECE8B2A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238CE-C00A-45D3-922B-75C59323E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4DD20-A250-4F35-AAF9-29644CA9C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E7A8C-B6D3-48C2-A112-5DF4B9292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8E4D-CBCA-45FC-9C19-30FA3526B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7652-E93E-4305-8A9F-7A7956516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BF72-E1C4-44F8-A69C-C2D03CE58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3B1D-503B-453C-AF3F-70A67C236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A697-C314-40EA-9675-36B89B27A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8E40-BEB0-4BC0-B82E-8FFFA58D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7E1C-1D6C-4268-A5FE-0C0692C5D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EC895-B56B-4BE5-B29A-72A36E3478D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A259D-1EE8-4210-AA58-5F0BABEAB53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第七章  跨国公司经营战略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(4)—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技术转移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43280" y="292428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1.</a:t>
            </a:r>
            <a:r>
              <a:rPr b="0" lang="zh-CN" sz="1600" spc="-1" strike="noStrike">
                <a:solidFill>
                  <a:srgbClr val="006666"/>
                </a:solidFill>
                <a:latin typeface="Arial"/>
              </a:rPr>
              <a:t>技术与技术转移及其相关概念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2.</a:t>
            </a:r>
            <a:r>
              <a:rPr b="0" lang="zh-CN" sz="1600" spc="-1" strike="noStrike">
                <a:solidFill>
                  <a:srgbClr val="006666"/>
                </a:solidFill>
                <a:latin typeface="Arial"/>
              </a:rPr>
              <a:t>跨国公司技术转移理论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3.</a:t>
            </a:r>
            <a:r>
              <a:rPr b="0" lang="zh-CN" sz="1600" spc="-1" strike="noStrike">
                <a:solidFill>
                  <a:srgbClr val="006666"/>
                </a:solidFill>
                <a:latin typeface="Arial"/>
              </a:rPr>
              <a:t>跨国公司技术转移的内容</a:t>
            </a: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\</a:t>
            </a:r>
            <a:r>
              <a:rPr b="0" lang="zh-CN" sz="1600" spc="-1" strike="noStrike">
                <a:solidFill>
                  <a:srgbClr val="006666"/>
                </a:solidFill>
                <a:latin typeface="Arial"/>
              </a:rPr>
              <a:t>影响因素</a:t>
            </a: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\</a:t>
            </a:r>
            <a:r>
              <a:rPr b="0" lang="zh-CN" sz="1600" spc="-1" strike="noStrike">
                <a:solidFill>
                  <a:srgbClr val="006666"/>
                </a:solidFill>
                <a:latin typeface="Arial"/>
              </a:rPr>
              <a:t>效应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4.</a:t>
            </a:r>
            <a:r>
              <a:rPr b="0" lang="zh-CN" sz="1600" spc="-1" strike="noStrike">
                <a:solidFill>
                  <a:srgbClr val="006666"/>
                </a:solidFill>
                <a:latin typeface="Arial"/>
              </a:rPr>
              <a:t>跨国公司技术转让策略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3.3</a:t>
            </a:r>
            <a:r>
              <a:rPr b="1" lang="zh-CN" sz="1800" spc="-1" strike="noStrike">
                <a:solidFill>
                  <a:srgbClr val="006666"/>
                </a:solidFill>
                <a:latin typeface="Arial"/>
              </a:rPr>
              <a:t>直接投资途径的技术转移效应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正效应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激励与示范效应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节约效应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3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溢出效应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负效应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获得与使用的高成本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依赖与技术不适用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3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对当地企业成长的制约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4.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跨国公司技术转让与技术转让策略</a:t>
            </a:r>
            <a:br>
              <a:rPr sz="2000"/>
            </a:b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.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跨国公司技术转让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—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国际技术贸易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许可证贸易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咨询服务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(3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协助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(4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补偿贸易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(5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工程承包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6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特许经营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(7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合作生产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(8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合作研发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(9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设备租赁等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.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跨国公司技术转让策略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转让内容选择策略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转让方式选择策略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3) 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转让时间选择策略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.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技术与技术转移及其相关概念</a:t>
            </a:r>
            <a:br>
              <a:rPr sz="2000"/>
            </a:b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定义：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世界知识产权组织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WIPO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的定义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”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是指制造一种产品或提供一项服务的系统的知识”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有两种表现形态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有形形态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Tangible Form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如语言、文字、数据、公式、图表、配方等；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无形形态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tangible Form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技术，如专门技术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Know-how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、实验操作、操作工艺、思维观念等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特征：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有形性与无形性相统一，本质上是无形的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系统性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商品属性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.2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技术转移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68295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转移的定义：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联合国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《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国际技术转移行动守则草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》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中定义：“关于制造产品、应用生产方法或提供服务的系统知识的转移，但不包括货物的单纯买卖或租赁。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转移的方式：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跨国公司技术转移有两种主要方式：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跨国公司对其所拥有和控制的子公司实行内部化转移，主要采取对外直接投资方式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跨国公司对其他公司实行外部市场化转移。形式多样，主要有特许经营、许可证交易、技术援助、分包或委托制造安排等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1.3</a:t>
            </a:r>
            <a:r>
              <a:rPr b="1" lang="zh-CN" sz="1800" spc="-1" strike="noStrike">
                <a:solidFill>
                  <a:srgbClr val="006666"/>
                </a:solidFill>
                <a:latin typeface="Arial"/>
              </a:rPr>
              <a:t>与技术转移相关的几个概念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技术转移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Transfer)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与技术转让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Assignment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前者包括技术的地点转移与权利转移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后者则只是技术权利的转让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技术转移与技术扩散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前者是有明确的经济目的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后者是技术通过市场或非市场渠道的传播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3)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技术转移与技术引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4)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技术转移与国际技术转移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2.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跨国公司国际技术转移理论</a:t>
            </a:r>
            <a:br>
              <a:rPr sz="2000"/>
            </a:b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差距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最早由克拉弗斯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I.Klarvas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和波斯纳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M.A.Posner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提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之后克鲁格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Paul Krugman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、多拉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Mochel Dollar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、詹森和菲斯比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Jensen &amp; Thursby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、西莫利和萨特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imoli &amp;Soete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等相继发展了这个理论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理论模型见右图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图示：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Line 5"/>
          <p:cNvSpPr/>
          <p:nvPr/>
        </p:nvSpPr>
        <p:spPr>
          <a:xfrm flipV="1">
            <a:off x="5148360" y="2924280"/>
            <a:ext cx="0" cy="26654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Line 6"/>
          <p:cNvSpPr/>
          <p:nvPr/>
        </p:nvSpPr>
        <p:spPr>
          <a:xfrm>
            <a:off x="5148360" y="5589720"/>
            <a:ext cx="324000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Freeform 8"/>
          <p:cNvSpPr/>
          <p:nvPr/>
        </p:nvSpPr>
        <p:spPr>
          <a:xfrm>
            <a:off x="6149880" y="4008600"/>
            <a:ext cx="2171880" cy="1552320"/>
          </a:xfrm>
          <a:custGeom>
            <a:avLst/>
            <a:gdLst>
              <a:gd name="textAreaLeft" fmla="*/ 0 w 2171880"/>
              <a:gd name="textAreaRight" fmla="*/ 2172240 w 2171880"/>
              <a:gd name="textAreaTop" fmla="*/ 0 h 1552320"/>
              <a:gd name="textAreaBottom" fmla="*/ 1552680 h 1552320"/>
            </a:gdLst>
            <a:ahLst/>
            <a:rect l="textAreaLeft" t="textAreaTop" r="textAreaRight" b="textAreaBottom"/>
            <a:pathLst>
              <a:path w="1368" h="978">
                <a:moveTo>
                  <a:pt x="0" y="978"/>
                </a:moveTo>
                <a:cubicBezTo>
                  <a:pt x="53" y="975"/>
                  <a:pt x="106" y="976"/>
                  <a:pt x="158" y="970"/>
                </a:cubicBezTo>
                <a:cubicBezTo>
                  <a:pt x="172" y="968"/>
                  <a:pt x="184" y="960"/>
                  <a:pt x="197" y="955"/>
                </a:cubicBezTo>
                <a:cubicBezTo>
                  <a:pt x="274" y="927"/>
                  <a:pt x="354" y="892"/>
                  <a:pt x="434" y="876"/>
                </a:cubicBezTo>
                <a:cubicBezTo>
                  <a:pt x="467" y="854"/>
                  <a:pt x="503" y="858"/>
                  <a:pt x="537" y="836"/>
                </a:cubicBezTo>
                <a:cubicBezTo>
                  <a:pt x="623" y="779"/>
                  <a:pt x="706" y="704"/>
                  <a:pt x="805" y="671"/>
                </a:cubicBezTo>
                <a:cubicBezTo>
                  <a:pt x="828" y="637"/>
                  <a:pt x="865" y="625"/>
                  <a:pt x="900" y="600"/>
                </a:cubicBezTo>
                <a:cubicBezTo>
                  <a:pt x="928" y="580"/>
                  <a:pt x="946" y="563"/>
                  <a:pt x="979" y="552"/>
                </a:cubicBezTo>
                <a:cubicBezTo>
                  <a:pt x="1012" y="501"/>
                  <a:pt x="973" y="551"/>
                  <a:pt x="1018" y="521"/>
                </a:cubicBezTo>
                <a:cubicBezTo>
                  <a:pt x="1052" y="499"/>
                  <a:pt x="1079" y="465"/>
                  <a:pt x="1113" y="442"/>
                </a:cubicBezTo>
                <a:cubicBezTo>
                  <a:pt x="1133" y="414"/>
                  <a:pt x="1156" y="399"/>
                  <a:pt x="1176" y="371"/>
                </a:cubicBezTo>
                <a:cubicBezTo>
                  <a:pt x="1185" y="344"/>
                  <a:pt x="1200" y="317"/>
                  <a:pt x="1215" y="292"/>
                </a:cubicBezTo>
                <a:cubicBezTo>
                  <a:pt x="1225" y="276"/>
                  <a:pt x="1247" y="245"/>
                  <a:pt x="1247" y="245"/>
                </a:cubicBezTo>
                <a:cubicBezTo>
                  <a:pt x="1262" y="200"/>
                  <a:pt x="1285" y="151"/>
                  <a:pt x="1318" y="118"/>
                </a:cubicBezTo>
                <a:cubicBezTo>
                  <a:pt x="1331" y="82"/>
                  <a:pt x="1368" y="38"/>
                  <a:pt x="1349" y="0"/>
                </a:cubicBezTo>
              </a:path>
            </a:pathLst>
          </a:custGeom>
          <a:noFill/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Line 9"/>
          <p:cNvSpPr/>
          <p:nvPr/>
        </p:nvSpPr>
        <p:spPr>
          <a:xfrm flipV="1">
            <a:off x="5219640" y="4149360"/>
            <a:ext cx="3600360" cy="1368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Freeform 11"/>
          <p:cNvSpPr/>
          <p:nvPr/>
        </p:nvSpPr>
        <p:spPr>
          <a:xfrm>
            <a:off x="5148360" y="4365720"/>
            <a:ext cx="3360600" cy="1265040"/>
          </a:xfrm>
          <a:custGeom>
            <a:avLst/>
            <a:gdLst>
              <a:gd name="textAreaLeft" fmla="*/ 0 w 3360600"/>
              <a:gd name="textAreaRight" fmla="*/ 3360960 w 3360600"/>
              <a:gd name="textAreaTop" fmla="*/ 0 h 1265040"/>
              <a:gd name="textAreaBottom" fmla="*/ 1265040 h 1265040"/>
            </a:gdLst>
            <a:ahLst/>
            <a:rect l="textAreaLeft" t="textAreaTop" r="textAreaRight" b="textAreaBottom"/>
            <a:pathLst>
              <a:path w="2117" h="797">
                <a:moveTo>
                  <a:pt x="3" y="797"/>
                </a:moveTo>
                <a:cubicBezTo>
                  <a:pt x="64" y="736"/>
                  <a:pt x="0" y="790"/>
                  <a:pt x="169" y="766"/>
                </a:cubicBezTo>
                <a:cubicBezTo>
                  <a:pt x="186" y="764"/>
                  <a:pt x="199" y="748"/>
                  <a:pt x="216" y="742"/>
                </a:cubicBezTo>
                <a:cubicBezTo>
                  <a:pt x="246" y="712"/>
                  <a:pt x="275" y="694"/>
                  <a:pt x="311" y="671"/>
                </a:cubicBezTo>
                <a:cubicBezTo>
                  <a:pt x="328" y="660"/>
                  <a:pt x="341" y="642"/>
                  <a:pt x="358" y="631"/>
                </a:cubicBezTo>
                <a:cubicBezTo>
                  <a:pt x="380" y="599"/>
                  <a:pt x="398" y="590"/>
                  <a:pt x="429" y="568"/>
                </a:cubicBezTo>
                <a:cubicBezTo>
                  <a:pt x="474" y="537"/>
                  <a:pt x="509" y="498"/>
                  <a:pt x="563" y="482"/>
                </a:cubicBezTo>
                <a:cubicBezTo>
                  <a:pt x="589" y="443"/>
                  <a:pt x="633" y="440"/>
                  <a:pt x="666" y="410"/>
                </a:cubicBezTo>
                <a:cubicBezTo>
                  <a:pt x="738" y="345"/>
                  <a:pt x="693" y="364"/>
                  <a:pt x="745" y="347"/>
                </a:cubicBezTo>
                <a:cubicBezTo>
                  <a:pt x="784" y="287"/>
                  <a:pt x="733" y="359"/>
                  <a:pt x="784" y="308"/>
                </a:cubicBezTo>
                <a:cubicBezTo>
                  <a:pt x="818" y="274"/>
                  <a:pt x="841" y="221"/>
                  <a:pt x="879" y="190"/>
                </a:cubicBezTo>
                <a:cubicBezTo>
                  <a:pt x="888" y="183"/>
                  <a:pt x="900" y="180"/>
                  <a:pt x="910" y="174"/>
                </a:cubicBezTo>
                <a:cubicBezTo>
                  <a:pt x="918" y="169"/>
                  <a:pt x="927" y="164"/>
                  <a:pt x="934" y="158"/>
                </a:cubicBezTo>
                <a:cubicBezTo>
                  <a:pt x="973" y="125"/>
                  <a:pt x="1014" y="102"/>
                  <a:pt x="1060" y="79"/>
                </a:cubicBezTo>
                <a:cubicBezTo>
                  <a:pt x="1101" y="58"/>
                  <a:pt x="1144" y="35"/>
                  <a:pt x="1186" y="16"/>
                </a:cubicBezTo>
                <a:cubicBezTo>
                  <a:pt x="1201" y="9"/>
                  <a:pt x="1234" y="0"/>
                  <a:pt x="1234" y="0"/>
                </a:cubicBezTo>
                <a:cubicBezTo>
                  <a:pt x="1460" y="7"/>
                  <a:pt x="1685" y="18"/>
                  <a:pt x="1912" y="24"/>
                </a:cubicBezTo>
                <a:cubicBezTo>
                  <a:pt x="1928" y="29"/>
                  <a:pt x="1944" y="35"/>
                  <a:pt x="1960" y="40"/>
                </a:cubicBezTo>
                <a:cubicBezTo>
                  <a:pt x="1968" y="43"/>
                  <a:pt x="1983" y="48"/>
                  <a:pt x="1983" y="48"/>
                </a:cubicBezTo>
                <a:cubicBezTo>
                  <a:pt x="2005" y="110"/>
                  <a:pt x="1972" y="36"/>
                  <a:pt x="2015" y="79"/>
                </a:cubicBezTo>
                <a:cubicBezTo>
                  <a:pt x="2048" y="112"/>
                  <a:pt x="2049" y="141"/>
                  <a:pt x="2086" y="166"/>
                </a:cubicBezTo>
                <a:cubicBezTo>
                  <a:pt x="2104" y="218"/>
                  <a:pt x="2085" y="213"/>
                  <a:pt x="2117" y="213"/>
                </a:cubicBezTo>
              </a:path>
            </a:pathLst>
          </a:custGeom>
          <a:noFill/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Line 12"/>
          <p:cNvSpPr/>
          <p:nvPr/>
        </p:nvSpPr>
        <p:spPr>
          <a:xfrm flipV="1">
            <a:off x="6156360" y="4365720"/>
            <a:ext cx="2448000" cy="1224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Line 13"/>
          <p:cNvSpPr/>
          <p:nvPr/>
        </p:nvSpPr>
        <p:spPr>
          <a:xfrm>
            <a:off x="7956720" y="4724280"/>
            <a:ext cx="0" cy="93672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Line 14"/>
          <p:cNvSpPr/>
          <p:nvPr/>
        </p:nvSpPr>
        <p:spPr>
          <a:xfrm>
            <a:off x="8101080" y="4365720"/>
            <a:ext cx="0" cy="122400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Line 15"/>
          <p:cNvSpPr/>
          <p:nvPr/>
        </p:nvSpPr>
        <p:spPr>
          <a:xfrm flipV="1">
            <a:off x="6227640" y="3789000"/>
            <a:ext cx="0" cy="180036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Line 16"/>
          <p:cNvSpPr/>
          <p:nvPr/>
        </p:nvSpPr>
        <p:spPr>
          <a:xfrm flipV="1">
            <a:off x="5796000" y="3789000"/>
            <a:ext cx="0" cy="180036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8369280" y="53928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Text Box 18"/>
          <p:cNvSpPr/>
          <p:nvPr/>
        </p:nvSpPr>
        <p:spPr>
          <a:xfrm>
            <a:off x="5522400" y="278604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演进与出口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Text Box 19"/>
          <p:cNvSpPr/>
          <p:nvPr/>
        </p:nvSpPr>
        <p:spPr>
          <a:xfrm>
            <a:off x="8408520" y="4508640"/>
            <a:ext cx="5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国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Text Box 20"/>
          <p:cNvSpPr/>
          <p:nvPr/>
        </p:nvSpPr>
        <p:spPr>
          <a:xfrm>
            <a:off x="8245080" y="3665520"/>
            <a:ext cx="5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国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2.2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垄断优势理论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海默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Hymer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和金德尔伯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Kindleberger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提出垄断优势理论解释跨国公司对外直接投资原因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在此基础上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赫奇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Hirsch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在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世纪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7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年代从成本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—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收益分析的角度提出了选择模型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出口方式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对外直接投资方式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许可证贸易方式三者间的选择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赫奇提出跨国公司国际经营成本分为两类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基本生产成本和特别成本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跨国公司成本与利润的关系是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利润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=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销售收入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基本生产成本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特别成本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设出口成本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x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直接投资成本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d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许可证贸易成本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f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则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如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x&lt; Cd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且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x&lt; Cf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选择出口方式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如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d &lt; Cx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且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d &lt; Cf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选择对外直接投资方式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如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f &lt; Cx 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且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f &lt; Cd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选择许可证贸易方式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2.3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技术转移的周期理论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弗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Vernon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的产品生命周期理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一国一项产品技术的导入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成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成熟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衰退周期中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初期采用出口方式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成熟期采用对外直接投资方式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利用东道国区位优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衰退期采用许可证贸易形式转让技术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小岛清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Kojima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的产业转移周期理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对外直接投资从本国已经处于或即将处于比较劣势的产业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也称边际产业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依次进行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3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斋藤优的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-R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制约论与技术转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斋藤优在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9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年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&lt;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转移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&gt;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中提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-R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制约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 N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国民需求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national need),R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资源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Resources)(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资本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劳动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原材料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机器设备等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如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-R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关系中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资源不能够满足国民需求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就会产生技术创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创新后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企业会把原有技术转移到其他国家的企业中去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这样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N-R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瓶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—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创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—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转移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 N-R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再瓶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—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再创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—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转移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形成了技术创新与转移的循环向上的趋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2.4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内部化理论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内部化理论的主要代表人物有巴克利和卡森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Buckley &amp; Casson,1976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、克鲁格曼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Rugman,1981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。他们基于科斯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Coase,1937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和威廉姆森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williamson,1975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创立的交易成本理论，提出内部化理论（如果企业内部交易成本小于市场交易成本，从而企业自己进行交易，实现内部化）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巴克利和卡森的内部化原因分析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巴克利和卡森认为两种产业内部化的动力最强：一是收益递增的产业或资本密集产业；另一个产业是信息产业（包括一切基于知识资产的产业）。原因是：研发的成本与收益关系、信息产业的垄断性决定了最优策略为差别定价、外部市场的不完全性导致买卖双方的垄断地位使交易成本增加、技术泄露以及被模仿风险、知识难以定价故内部化为转移价格提供了条件等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鲁格曼的选择模型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476360" y="5300640"/>
          <a:ext cx="6095880" cy="100656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出口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直接投资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技术转让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贸易壁垒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内部化优势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专利制度不完善形成的成本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3.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跨国公司技术转移的内容、影响因素与效应</a:t>
            </a:r>
            <a:br>
              <a:rPr sz="2000"/>
            </a:b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跨国公司技术转移的内容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工业产权的转移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专利技术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无形的财产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包括发明专利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实用新型专利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外观设计专利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商标专利权等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非工业产权的技术转移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专有技术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—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诀窍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包括设计方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设计图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说明书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示范和技术指导等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3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提供技术服务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影响跨国公司技术转移的因素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母国政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特性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3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东道国政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4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输入国的资源条件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1T10:06:51Z</dcterms:created>
  <dc:creator>YPL</dc:creator>
  <dc:description/>
  <dc:language>en-US</dc:language>
  <cp:lastModifiedBy>Administrator</cp:lastModifiedBy>
  <dcterms:modified xsi:type="dcterms:W3CDTF">2020-12-30T07:27:37Z</dcterms:modified>
  <cp:revision>20</cp:revision>
  <dc:subject/>
  <dc:title>9.跨国公司经营战略(4)—技术转移</dc:title>
</cp:coreProperties>
</file>