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A611-CCF6-4E11-8DF0-C1D100918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5BAA-AA8C-414B-BE17-F83927D4D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4059-1BE7-481A-A7DC-C93DD39FF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BFFF-3D9C-4678-8D48-77C37BC8A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FFE78-F629-405A-893F-A111E99C7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F7B18-9D74-48C1-8DFB-A92880C52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888F7-30E5-484C-8E91-34B42260E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DE267-06C2-4C11-AC4D-F3EE12DB0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A6566-768E-4FC7-AC8D-3FBEA179B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DF612-5D0C-4E3D-B4AA-3D2CF80D4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355DD-5484-40DF-B53D-AA17C9263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2157-7759-4C17-8E01-581F67BC7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A6C4C-D136-4330-90E4-F4177C70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7ECFA-21E7-400B-B5EE-EE2BABBE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0B7D7-2F78-4458-BBB7-0E842D4F6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67D34-A8EC-4119-A437-E3B4924F0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05E9C-AE64-45EE-8A71-8B096E7EB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450B-403D-4C8B-80D3-48FC46B4B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EBC0-A356-44AF-A8E8-4F36DCD51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8E1F-B31F-418E-BC4D-CB315FD15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3203-2B0E-4072-B8AB-CF76E6652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7DA5-4938-4F9B-8A4D-CAB8C6F07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E16A-2B12-4FDD-A412-C44688CE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849A-1152-4E47-B1D5-81F58567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D59CD-C131-4450-9D34-9A090EF5B43E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9D907-0E71-4186-BBB2-3B3EAEE1C08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0E5D7-B6C4-40C7-B0DA-5DAE14EB6F74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B8916-EFD7-4BD9-A101-616B779D32B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8DE1B-A626-42C5-81AE-45D7171A592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86800" cy="175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c0000"/>
                </a:solidFill>
                <a:latin typeface="黑体"/>
                <a:ea typeface="黑体"/>
              </a:rPr>
              <a:t>第十二章  消费者的品牌心理与行为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1332000" y="2565360"/>
            <a:ext cx="6696000" cy="29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节   品牌的内涵与构成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二节   品牌心理的形成机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三节   消费者的品牌购买行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四节   增强消费者的品牌偏好与忠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7C22A-7194-47E1-B8DB-E14E445EE64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品牌的心理作用机制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116000" y="1413000"/>
            <a:ext cx="75708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认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认知过程是指消费者认识、了解、确信并接受品牌的过程，是品牌发生作用的心理基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定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个性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情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内容占位符 2"/>
          <p:cNvSpPr/>
          <p:nvPr/>
        </p:nvSpPr>
        <p:spPr>
          <a:xfrm>
            <a:off x="4356000" y="981000"/>
            <a:ext cx="8229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19280" y="620280"/>
            <a:ext cx="639288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品牌的心理效应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32000" y="1719360"/>
            <a:ext cx="73548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差异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光环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情感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魅力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附加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1692000" y="1719360"/>
            <a:ext cx="69944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品牌在消费者购买行为中的作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消费者品牌转换行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灯片编号占位符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ABDE6-B27E-4919-994F-93999E7A98E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标题 1"/>
          <p:cNvSpPr/>
          <p:nvPr/>
        </p:nvSpPr>
        <p:spPr>
          <a:xfrm>
            <a:off x="179280" y="260280"/>
            <a:ext cx="8472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三节  消费者的品牌购买行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179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在消费者购买行为中的作用</a:t>
            </a:r>
            <a:br>
              <a:rPr sz="36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403280" y="2133360"/>
            <a:ext cx="728352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品牌在寻找解决方案中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品牌在评价比较方案中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品牌在购后评价中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C70E3-4AA5-497A-90DD-2BC118D522E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543800" cy="130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品牌转换行为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灯片编号占位符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ABA0B-C157-4D85-A76D-AE609F965B1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971640" y="1341000"/>
            <a:ext cx="772632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消费者品牌转换的产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消费者品牌转换的影响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82360" indent="-24264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消费者因素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58640" indent="-268560">
              <a:lnSpc>
                <a:spcPct val="150000"/>
              </a:lnSpc>
              <a:spcBef>
                <a:spcPts val="601"/>
              </a:spcBef>
              <a:buClr>
                <a:srgbClr val="c00000"/>
              </a:buClr>
              <a:buSzPct val="8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卷入程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58640" indent="-268560">
              <a:lnSpc>
                <a:spcPct val="150000"/>
              </a:lnSpc>
              <a:spcBef>
                <a:spcPts val="601"/>
              </a:spcBef>
              <a:buClr>
                <a:srgbClr val="c00000"/>
              </a:buClr>
              <a:buSzPct val="8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的产品知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58640" indent="-268560">
              <a:lnSpc>
                <a:spcPct val="150000"/>
              </a:lnSpc>
              <a:spcBef>
                <a:spcPts val="601"/>
              </a:spcBef>
              <a:buClr>
                <a:srgbClr val="c00000"/>
              </a:buClr>
              <a:buSzPct val="8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特征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82360" indent="-24264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企业营销因素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82360" indent="-24264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市场竞争结构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88240" indent="-2955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88240" indent="-2955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78920" y="122400"/>
            <a:ext cx="82090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四节  增强消费者的品牌偏好与忠诚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403280" y="1719360"/>
            <a:ext cx="7283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品牌忠诚的概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品牌忠诚形成的心理机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增强消费者品牌忠诚的措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灯片编号占位符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2DB0D-620D-4884-855D-2048412876D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4A343-2BE1-41FF-8D7F-B0D81535287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忠诚的概念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675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行为论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the behavioral approach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态度论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the attitudinal approach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忠诚的特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是非随机的，有倾向性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具有行为反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在较长时间内持续表现出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经过某些决策过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针对某品牌集合中的一个或多个特定品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是决策、评价等心理过程的函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8198C-976C-4191-88D6-AD90D48C144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7821720" cy="137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品牌忠诚形成的心理机制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4" name="AutoShape 4"/>
          <p:cNvSpPr/>
          <p:nvPr/>
        </p:nvSpPr>
        <p:spPr>
          <a:xfrm>
            <a:off x="1116000" y="1989000"/>
            <a:ext cx="1657440" cy="719280"/>
          </a:xfrm>
          <a:custGeom>
            <a:avLst/>
            <a:gdLst>
              <a:gd name="textAreaLeft" fmla="*/ 0 w 1657440"/>
              <a:gd name="textAreaRight" fmla="*/ 1657800 w 165744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73" y="0"/>
                </a:lnTo>
                <a:lnTo>
                  <a:pt x="21600" y="10800"/>
                </a:lnTo>
                <a:lnTo>
                  <a:pt x="1387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认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5"/>
          <p:cNvSpPr/>
          <p:nvPr/>
        </p:nvSpPr>
        <p:spPr>
          <a:xfrm>
            <a:off x="3132000" y="1987560"/>
            <a:ext cx="1656000" cy="720720"/>
          </a:xfrm>
          <a:custGeom>
            <a:avLst/>
            <a:gdLst>
              <a:gd name="textAreaLeft" fmla="*/ 0 w 1656000"/>
              <a:gd name="textAreaRight" fmla="*/ 1656360 w 165600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843" y="0"/>
                </a:lnTo>
                <a:lnTo>
                  <a:pt x="21600" y="10800"/>
                </a:lnTo>
                <a:lnTo>
                  <a:pt x="14843" y="21600"/>
                </a:lnTo>
                <a:lnTo>
                  <a:pt x="0" y="21600"/>
                </a:lnTo>
                <a:lnTo>
                  <a:pt x="6757" y="108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态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7"/>
          <p:cNvSpPr/>
          <p:nvPr/>
        </p:nvSpPr>
        <p:spPr>
          <a:xfrm>
            <a:off x="5292720" y="2060640"/>
            <a:ext cx="1368360" cy="720720"/>
          </a:xfrm>
          <a:prstGeom prst="flowChartProcess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行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1403280" y="3357720"/>
            <a:ext cx="5400720" cy="18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认知与品牌忠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态度与品牌忠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行为与品牌忠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F05F9-A565-4C54-B210-020AA83EBF4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1547640" y="2276640"/>
            <a:ext cx="7221600" cy="36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强化消费者的品牌意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提升产品与服务品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构建品牌信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善用品牌联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提高品牌转换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-360" y="765000"/>
            <a:ext cx="8001000" cy="1229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增强消费者品牌忠诚的措施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一节  品牌的内涵与构成 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403280" y="1719360"/>
            <a:ext cx="7283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品牌的定义及内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品牌的构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灯片编号占位符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52AF3-4CFF-4707-ABBE-3EB21A89A33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的定义及内涵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042560" y="1915920"/>
            <a:ext cx="764388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起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关于品牌定义的研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内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灯片编号占位符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5E964-F608-482D-AABB-508783F4074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132B5-DDEB-4555-B0BC-415DA83391D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的定义及内涵</a:t>
            </a:r>
            <a:br>
              <a:rPr sz="3200"/>
            </a:br>
            <a:r>
              <a:rPr b="1" lang="zh-CN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起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关于品牌定义的研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2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标识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2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资产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2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信号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2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符号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内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是人类消费发展的产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物质载体是产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特定内容是文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特定对象是消费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-360" y="54900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的定义及内涵</a:t>
            </a:r>
            <a:br>
              <a:rPr sz="3200"/>
            </a:br>
            <a:r>
              <a:rPr b="1" lang="zh-CN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2110C-C3EF-4F59-ADF9-11D50E2DD96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品牌的构成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68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显性要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显性要素是品牌展现在外的、具体的，消费者可以直接感知的成份，主要指品牌及其所标定产品的名称、标识、包装设计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名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视觉标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6FCD1-D2B2-4F61-94FB-0880375077E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品牌的构成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8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隐性要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中不能被直接触摸和感觉到的就被称为品牌的隐性要素，它是 存在于品牌整个形成过程的核心要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承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个性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体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二节  品牌心理的形成机制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835280" y="1719360"/>
            <a:ext cx="6851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品牌的心理作用基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品牌的心理作用机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品牌的心理效应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灯片编号占位符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B2DAD-2AA6-4B25-9C01-C442DDC482B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0D49C-5105-44CD-B795-21E95794AC1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95000" y="476280"/>
            <a:ext cx="754380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的心理作用基础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                                                                                        </a:t>
            </a:r>
            <a:br>
              <a:rPr sz="36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763640" y="1700280"/>
            <a:ext cx="67168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象征意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我个性的表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我价值的实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情感意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内容占位符 2"/>
          <p:cNvSpPr/>
          <p:nvPr/>
        </p:nvSpPr>
        <p:spPr>
          <a:xfrm>
            <a:off x="3924360" y="1197000"/>
            <a:ext cx="8229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30T08:20:57Z</dcterms:created>
  <dc:creator>jianglin</dc:creator>
  <dc:description/>
  <dc:language>en-US</dc:language>
  <cp:lastModifiedBy>Administrator</cp:lastModifiedBy>
  <dcterms:modified xsi:type="dcterms:W3CDTF">2015-09-03T09:22:45Z</dcterms:modified>
  <cp:revision>114</cp:revision>
  <dc:subject/>
  <dc:title>PowerPoint 演示文稿</dc:title>
</cp:coreProperties>
</file>