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5B2-5068-47E5-9D79-28929747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3E1-9D1C-4A0C-A522-E825B012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99E-3063-477E-830C-A842FC86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9BA-F028-4A5F-92D5-0D06832A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6200-8CE9-43C5-8A12-E1052141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ACC6-4D7E-44A5-A294-D47D783D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81EF-2A98-4198-AF0D-BB5B5262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55A5-28F1-43AC-89D2-669C1368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451F-B107-41B6-9CFB-5CF67540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4601-2407-4766-B6D7-7F9DA0F6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A943-CF83-4614-9CE5-DD26EB62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89F-CEA0-49CC-9073-1FE3E217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77D2-BF85-4DCF-8E8C-B99A9BF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EE6D-58A0-4F92-9E75-A5C964C4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66FE-B237-45E3-985A-32EEEAF2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B711-2C35-42C2-A1A5-C2FFB678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B3F5-E859-452A-BD71-584AB6E8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8C5C-1D09-4E44-B43E-7EE0FBFB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4967-D55D-42AD-999F-52BE99DC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62A9-5D58-4EAF-AA03-F0938850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B335-25D4-4168-8CF3-B8C254DB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244F-746A-449B-8EF3-872606C9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0A0-ABC2-4DC2-BEE9-42ECECFD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2C996-80F5-4402-A179-838520DE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593A-BF82-4728-9A66-F86764AE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FD50-D450-496B-A271-B7BB5487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07D80-0209-4B5D-8F01-04A25002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0F0E-FB1D-4C13-84D1-17BF1899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A9DB-2CFF-462C-85F3-F74885B6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402C6-9B40-4E40-B214-900D21CE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7F51-36D2-4F5E-82CA-3AACB588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7764D-B022-4336-B36A-66D1B808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8A86A-E803-499E-A5F1-0D75A59A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654-393F-45C5-A42D-2932DC36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FAF1-17A7-4851-8D13-0C1CD982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56B58-FAC7-4BA4-B518-D071F9B9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A033-15DA-4ABB-BD29-515236DC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71ABB-014C-4233-A89A-887E7344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61ECE-9279-4412-A392-F4C96DB8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89D7-6266-44E2-98AA-1FA32405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9D12D-149A-4D1E-9FE5-D824BA55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604E3-65A7-4F2F-964A-51D6B2CC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BCE12-8D7C-44C4-A9D5-78DF1CE2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7F1-1132-4450-930F-3F191E3B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BB0-0B42-470C-B155-667DEC80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05A-64B9-4441-AA28-BB1586C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490-65E3-4732-A836-FDBEF712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631-010F-4DFE-9DF4-0401F7A8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BDFCA-A4E4-46DA-BEAD-65CB52D73644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D87A7-2981-46BC-B101-890279ED840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65EEF-7C48-4148-8578-9B13C2BE930A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3C831-B6EC-410B-9792-705E2FE8B7E8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四章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7f7f7f"/>
                </a:solidFill>
                <a:latin typeface="Times New Roman"/>
                <a:ea typeface="华文新魏"/>
              </a:rPr>
              <a:t>本票和支票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支票的保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付的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31320"/>
            <a:ext cx="876312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  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本票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本票的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是出票人作成的一项无条件的书面支付承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中国票据法定义： 见票即付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银行本票 （商业本票？）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941120"/>
            <a:ext cx="8537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必要项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必要项目包括以下项目：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表示本票的字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无条件支付承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确定金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收款人或者其指定人的名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日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人的签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本票与汇票行为的差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出票行为：出票人的义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提示行为：提示期间的不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二节    支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支票是无条件的书面支付命令，是一种以银行为付款人的即期汇票。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必要项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表示支票的字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一定金额的委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名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签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金额和空白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出票和空头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支票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般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特别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7:30:26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8:40Z</dcterms:modified>
  <cp:revision>10</cp:revision>
  <dc:subject/>
  <dc:title>第四章 本票和支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