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CCB-11E2-4870-AB72-51F36DBB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E20-B443-4A1F-A130-58628E4A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0A8-109F-4A23-9DA6-6838270C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F6E-C397-4507-8192-F520B9D1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403B-BF8E-4A82-AEBB-CC7DD471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AC11-5D2A-4DEC-8E81-216870E3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B9CB-05B6-4C41-9B08-8712F460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F6B0-AAB2-4F04-A1E1-2ADF11C4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1C3B-AE2B-449F-B1EE-860F3FFF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BE47-514F-4BFC-840B-E4FD5DC5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FF26-C72D-44E9-8969-183A235C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0E2-92A1-4C69-9F1C-488816FF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66D3-070B-4989-9FBF-6029DB27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080F-8ACB-445D-B642-93CB429B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59B9-3C76-429B-A3A5-DFCCC818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59CD-F54E-4620-8C7C-D04E742B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DD47-D3AB-4147-A438-E4080EF0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3F54B-F4C2-4770-9766-C7C21BB7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18148-6531-433F-9799-5CC2FC67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41463-5D6E-441B-94D3-08EA3B42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EEAD6-638B-496C-A4A3-EDB6EA8B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22529-4002-4FA0-8672-F6A60EEC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D54-9FE8-45E5-A8FA-2E7B3C32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1FF75-9AFB-4C0B-8C5D-98C12A61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6291C-151F-49C2-A3D1-03A23168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3BC89-16D0-40E5-982B-72A62C65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741EC-F38D-469C-A529-A90035C3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AAC54-FF48-4845-9BB9-CD1EB5E6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7FCAA-3AF1-4D53-B7F7-89E79BA0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3E97B-C136-4483-ABD1-FE0B8231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C43F8-0A28-4737-BDB2-0A99FB8E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50DB2-B02A-4BCF-8D3D-ED81BCB9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5C0D6-127C-4268-8B26-C4D090E8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018-583D-4000-8590-CBEA23B0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FD58A-11DA-4133-9B2C-3DEC2676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49191-4113-41AF-9E0C-B7C8C3C8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B1C75-7E4D-4559-B223-0150B2FA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955EA-CB57-4F0F-8F8A-BA631882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D1325-6D2D-4F40-B818-D8471823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46EBF-90D9-4CE9-9ED0-60721B0D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4B0BC-675D-4349-ACE6-FD67009B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C3BCD-6D05-4255-B5BB-42674221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78E01-3B04-406A-B0E8-71C44639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D84-EACC-47D8-B4B0-8AF3E419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C2F-CBF7-4FA2-86D7-8A45F128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113-DF08-4170-B99B-192B94CD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778-47DC-4EB0-9C8C-642BE0CC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F7D-4517-4F90-BE89-FAE2C1EF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B681-04BB-4F05-AE3C-62ECFA8007CB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8719-DABF-4A6F-9B24-F64FB66F4F18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6C9C-FDB8-4FA2-8DE3-00458417B67C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03CA-6FE2-4D6F-8C4D-502FA3AF1658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</a:rPr>
              <a:t>第二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7f7f7f"/>
                </a:solidFill>
                <a:latin typeface="Times New Roman"/>
              </a:rPr>
              <a:t>票据概述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三）票据的丧失与票据权利补救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1.  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的丧失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2.   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权利的补救措施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示催告制度，尤以德国与日本为代表；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告、除权判决、实现票据权利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普通诉讼制度，尤以美国为代表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实现付款请求权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 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四）票据权利时效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利益返还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206064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三、票据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（一）票据抗辩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人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物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对人抗辩事由主要有：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        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欠缺原因关系或者非法原因关系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对物抗辩事由一般根据票据法的有关规定提出的，主要有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欠缺应记载的事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未到期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时效届满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债务人欠缺行为能力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无权代理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伪造或者变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保全手续欠缺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</a:rPr>
              <a:t>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抗辩的限制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小结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练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的概念及特性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一、票据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票据，就是指出票人签发的，无条件的承诺由自己或委托他人支付一定金额的有价证券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二、票据主要特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要式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形式要件齐全、记载合乎规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无因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产生具有原因关系，如基础贸易合同，资金关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流通转让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形式：仅凭交付完成转让或者背书转让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的受让人，其所拥有的票据权利可能超越其前手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设权性和文义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27628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三、票据的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支付功能（支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信用功能（汇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流通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6920" y="860400"/>
            <a:ext cx="775476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第二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票据法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法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法就是规定票据种类、票据行为以及票据当事人权利义务等内容的法律规范的总称。票据法包括广义的和狭义的票据法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西方各国的票据法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93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以前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法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德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英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zh-CN" sz="3600" spc="-1" strike="noStrike">
              <a:solidFill>
                <a:srgbClr val="90c226"/>
              </a:solidFill>
              <a:latin typeface="仿宋_GB2312"/>
              <a:ea typeface="仿宋_GB2312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三、统一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仿宋_GB2312"/>
                <a:ea typeface="仿宋_GB2312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一）大陆法系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《统一汇票本票法公约》、《解决汇票本票法律冲突公约》和《汇票本票印花税法公约》《统一支票法公约》、《解决支票法律冲突公约》、《支票印花税法公约》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二）大陆法系与英美法系的分歧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三）国际汇票和本票公约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四、我国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三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权利与票据抗辩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权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票据权利的概念和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付款请求权和追索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权利的取得和行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取得主要有两种方式，即 原始取得和继受取得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行使，是指持票人请求票据债务人支付票据金额的行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8:52:15Z</dcterms:created>
  <dc:creator>LENOVO-T60</dc:creator>
  <dc:description/>
  <cp:keywords/>
  <dc:language>en-US</dc:language>
  <cp:lastModifiedBy>li carrie</cp:lastModifiedBy>
  <cp:lastPrinted>1899-12-30T00:00:00Z</cp:lastPrinted>
  <dcterms:modified xsi:type="dcterms:W3CDTF">2023-07-26T04:03:13Z</dcterms:modified>
  <cp:revision>2</cp:revision>
  <dc:subject/>
  <dc:title>第二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