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1D7-5DAF-43EF-9004-CDACF8C0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2E7F-67BD-43EF-B4B9-DB1F7DF6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10D-A9BE-4303-9662-B4805DD2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BDB-B6A1-4CBB-90BF-4D9E6151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1792-4E33-492F-8470-C7256DAB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36B0-9022-42EC-A6A9-67052006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2CBC-D18E-495F-B84D-253E1E84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A51D-E52F-49CD-9881-82D12FF0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2A6E-0288-4512-9AE6-E58C023A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B924-7A17-4F94-8942-0FD5FAEF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FC9A-7652-493C-8FC8-E5DA0074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F9B-69D3-452B-9190-470F2538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5F83-B9F3-4157-93DB-0A1347B8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BC4D-AF0E-4849-BE01-7264B6A4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E612-381E-45FE-900D-E7BA74D0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C258-DDB6-4A45-B0BB-203B7A1A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4145-784D-443E-924B-1E31CF08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8406-6C06-4B5F-9666-2E3CB218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EC349-34C7-4B7E-AE90-7954B4A6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95F32-4887-43F3-B689-02FD8160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A3D51-7227-49EA-97C8-DBF796D1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6B7B8-D990-448B-AEE1-3A598435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F53-DFEE-4904-862E-53626F5F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5B744-9623-4EB9-92E5-A61E0931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A07F7-C6B2-4E6F-8FF2-B4D7D15F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25270-9D33-448C-A2B5-CF7DFF74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39781-0D59-4EF2-9697-11E045F5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54E9B-6F9E-4872-935E-9B3E7539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2C26A-D29B-441B-B833-F3917FD7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5995-5BDA-455E-B131-A8B973C3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C9EDC-5E64-40E7-ADA2-66FE249D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96548-131A-4D0A-9D3F-E852B9BC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C2C67-FA88-4BAD-AB59-40FC55F3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899-A484-413A-8451-49B43B19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FFED8-115A-45DC-91C3-81479C73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F5AB1-8832-4C69-A534-22FA67A2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C4B72-1678-4143-A6A8-FEA47A1F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914CD-83B1-4DED-9D03-F3EB8DBF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9DD27-85DD-4856-BA14-44DC64D3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150A1-2602-4F95-AC4F-9172B51F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05C73-CB00-40C7-A30F-AF363710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C1C19-E35C-4067-A7E8-B2176310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A9706-9494-4124-AE88-865777CE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D0B-6DAC-49A0-BB9C-633AC38A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032-935B-434A-A81B-3FAB0070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763-09BE-4A06-AC61-F46F97EF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FC6-52C3-49B9-B1C0-66766215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B8B-4ED3-45FB-8135-DA4B24B7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24680-BF6B-42C6-AB14-4A5576119D9A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A8114-D34F-4A23-8FB3-D0940DD79DD6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67B2D-074B-4DA9-9C20-B28724C106FF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FBF36-7B37-458D-BD14-2C135EA39D07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280" y="1988640"/>
            <a:ext cx="545004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</a:t>
            </a: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三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040" y="4051440"/>
            <a:ext cx="452124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汇票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某一特定事件发生后定期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the happening of a specified ev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days after bill of lading date pay to the order of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出票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付款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任意记载事项，主要有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担当付款行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 Banker designated as paye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(date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Bank Of Europ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预备付款人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feree in case of need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To:  C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 case of need refer 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BC Company, 129 Buffee Street, Lond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免作退票通知或者放弃拒绝证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or Protest waived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   无追索权（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 to u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3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三、汇票当事人及其权利义务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基本当事人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其他当事人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被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保证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参加承兑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or for hon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正当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 in due cours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imes New Roman"/>
              <a:ea typeface="方正姚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正当持票人的条件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给付对价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善意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票据逾期或者曾被拒绝承兑或付款，或者对任何人就票据提出的任何抗辨或者权利主张，均不知情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四、汇票的种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根据不同的标准，汇票可分为不同种类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即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ht Bill or Demand Draf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远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ime Bill or Usance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光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Clean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以及跟单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Documentary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   银行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ank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商业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rad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国内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land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外国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eign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二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汇票的行为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票据行为概念与特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狭义的票据行为与广义的票据行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票据行为具有要式性、无因性、文义性和独立性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出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的背书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概念和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（三）   背书的伪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特别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peci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, Shangha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空白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lank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  <a:ea typeface="方正姚体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汇票的概念和必要项目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汇票的概念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必要项目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当事人及其权利与义务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种类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限制性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  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D Company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附有条件的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livery of Bill of lading Nol23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 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委托收款背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for collection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ollection pay to the order of Bank of China ,Shanghai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for deposit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value in collection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6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设质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in pledg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7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回头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verse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又称还原背书或逆背书，是以票据债务人为被背书人的转让背书。如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签发一张以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为收款人的汇票，该汇票出票后的流通转让如下表所示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提示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esentme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五、汇票的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普通承兑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（二）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限制性承兑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条件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delivery of bills of la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部分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rti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for amount of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￡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00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限制地点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Loc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the Bank of Europe ,London and there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延长付款时间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Qualified acceptance as to tim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ninety days after sig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六、汇票的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七、汇票的退票、退票通知和拒绝证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通知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拒绝证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otes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</a:t>
            </a: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汇票的概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，就是指出票人签发的，无条件的承诺由自己或委托他人支付一定金额的有价证券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八、汇票的追索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九、汇票的参加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 for ho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 FOR HONO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f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B   Company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9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K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      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十、汇票的保证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e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 GUARANTEE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ccount of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ned by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d on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绝对必要项目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汇票字样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ill of exchang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命令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Unconditional order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in our No.I accoun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provided the goods the supply are complied with contrac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确定的金额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mou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利息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plus interest calculated at the rate of 3% per annum from the date hereof to the date of payment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分期付款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by ten equal consecutive monthly installments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支付其他货币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converted into US dollar at current rate of exchange.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的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限制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only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或者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 Transferable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指示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emonstra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order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来人抬头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earer Orde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六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（七）出票人签章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signature</a:t>
            </a: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票据上的相对必要项目，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付款日期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e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汇票是信用工具，其付款期限有两种，即期和远期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即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sight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mand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presentation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远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a fixed future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20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July 20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××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pay to the order 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出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date pay to the order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见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sigh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sight pay to the order of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8:19:14Z</dcterms:created>
  <dc:creator>chen xiaolong</dc:creator>
  <dc:description/>
  <cp:keywords/>
  <dc:language>en-US</dc:language>
  <cp:lastModifiedBy>li carrie</cp:lastModifiedBy>
  <cp:lastPrinted>1899-12-30T00:00:00Z</cp:lastPrinted>
  <dcterms:modified xsi:type="dcterms:W3CDTF">2023-07-26T04:07:32Z</dcterms:modified>
  <cp:revision>25</cp:revision>
  <dc:subject/>
  <dc:title>第三章        汇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