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4C2-8088-4185-9318-8242B9B7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967-F0B5-45F0-B317-1BF07ECC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A02-39F7-4A3D-97E3-C4EA4769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AC7-C329-4055-9D20-56CF1EF4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2C9A-E4F8-442B-9EFD-5E684D1E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B65C-8A5A-4B58-8EFF-846CD91F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5D8B-D657-45DE-BD55-46E091AF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4536-BD2F-4353-BDA2-F1315319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556B-84EB-4587-B3DA-5D54DCB7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D2EC-A255-431E-AB9E-419F54E2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7F36-5C70-4D47-ADAE-61677E1E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97E-20AA-4422-82C8-D28DB37E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DFA4-117E-4FBA-B572-0AC98E33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F98A-BFF4-4F1A-AF97-D73F2398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74E7-4F3A-40A9-A479-ACED550D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A437-5C6D-49EF-B077-17A8A8CB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4736-B944-42EB-9D45-0DB6BC14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BFD-E7D1-437D-A492-976CD43C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F6B-39DE-4D0C-9F11-6391305C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BC7-A538-4F87-B8B2-7319C453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D9F-3298-440C-BC5E-1A1C391D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DDD-2EA4-4433-880F-E705DA6D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409-F48B-4E02-815C-959515A4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2AF-2E55-4A82-84D7-A8B96B43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4096-A446-4E4F-B934-DA7863546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6AED-C1EE-41E1-86AC-E98A8795CCA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sufep.com/bookspic/978-7-5642-1415-9.F.14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节  保险公司的经营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外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自然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人口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经济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政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五）社会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六）文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七）市场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经营的内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劳动者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经营技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资金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信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三节  保险公司的经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一般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经济核算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随行就市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薄利多销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的特殊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风险大量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风险选择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风险分散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四节   保险公司的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理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效益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信息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长期目标、中期目标和近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中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近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、公司利益目标和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司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、持续发展目标和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持续发展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一章  保险公司经营导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个目标之间的关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公司的经营管理部门，应当将财务稳定性目标、持续发展目标、盈利目标有机地结合起来，正确处理好三者的关系，在强调保证财务稳定性目标的基础上，对发展速度目标和盈利目标加以适当的平衡，否则利润和发展就成为无源之水、无本之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复习思考题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  实际费率   监管费率  纯费率  附加费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寿险费率厘定的要素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公司经营的内部环境和外部环境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经营的特殊原则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从保险公司财务管理的角度分析保险经营的目标以及相互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一节  保险经营的商品属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商品的使用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稳定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经济助动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管理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商品的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用保险费形式表示，保险商品的价值为纯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R+L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附加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C+V+M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商品的特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无形的商品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渴求商品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的消费是一种隐型消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商品的价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费率的种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际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管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财产保险费率的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判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增减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财产保险费率多采用分类法和增减法来厘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人寿保险费率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以下三个基本要素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死亡率或生存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利息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营业费用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的其他要素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退保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红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残废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保单中嵌入的各种选择权被保单持有人行使的概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09:04Z</dcterms:modified>
  <cp:revision>21</cp:revision>
  <dc:subject/>
  <dc:title>没有幻灯片标题</dc:title>
</cp:coreProperties>
</file>