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A0D4-AB65-4979-ACCE-5BE88A279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2868-C5D7-4579-9D37-E901210F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8C57-68A0-43AD-9E4F-0697CA4A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1FC0-7CAD-4A4C-9E16-4F0EA3C40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CF17-EC10-449D-BDBA-FA7E950CB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1EB4-E3AE-4F2A-91DC-5C25CD13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7A04-DB76-4170-8CF9-CBB85ABF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7CA3-23AE-4223-A7B4-1AEA9E3C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A262-41CA-41F2-A889-5DD95F17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EAF3-FDFF-4A2A-95D5-2EA0FD83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425E-C639-497F-80D1-175118C9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F5A7-95F5-4E1C-AF1E-1C495B0E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40A3-46BE-4E57-8E3E-9FB7DB3C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42D9-7DEF-452F-A424-0ED70551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018A-BECB-43E0-B19A-5F9AEA81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D481-89FD-4898-9EB2-15E7703E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D57D-2C3A-43A8-A79E-9CAB761AD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A75C-18AA-4EF8-BBBA-2046B4EA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7445-1B3F-4524-A025-6ADEDF9F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B714-5597-4B98-9851-ADDCC2D1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F6E4-1B0C-4B6C-8531-D54D835E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32B1-AEF4-44C4-86D4-F53529AE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376C-9C24-4627-A1A1-46219C24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BB40-A66A-462E-92BA-DF9E4FD9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39937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任意多边形 39938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任意多边形 39939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任意多边形 39940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圆角矩形 39941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ADAC-5EAC-48AC-A0E3-DAA7DF6FE7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40961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任意多边形 40962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任意多边形 40963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任意多边形 40964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圆角矩形 4096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08DD-FDD9-4BF6-B573-FF81D909194E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六章   保险投资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440" y="20574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实物资产投资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最主要的是不动产投资，也包括一些机械设备等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三、我国保险投资的形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018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年《保险资金运用管理办法》明确规定保险资金运用限于下列形式： （一）银行存款； （二）买卖债券、股票、证券投资基金份额等有价证券； （三）投资不动产； （四）投资股权； （五）国务院规定的其他资金运用形式。 保险资金从事境外投资的，应当符合中国保监会、中国人民银行和国家外汇管理局的相关规定。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第四节 保险投资主体模式的选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公司内设投资机构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委托专业的投资机构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专业化保险资产管理公司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五节  保险投资风险的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政府对保险业投资风险的监管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对保险投资范围的限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对保险投资比例的限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对投资资产与负债的配比关系的限制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对金融衍生工具的使用限制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公司对投资风险的管理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制定合理的投资策略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资产分配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投资组合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资产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析保险投资的资金来源和性质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投资的一般条件约束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投资的特殊条件约束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我国保险投资的主要方式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作为保险监管机构应从哪些方面加强对保险公司投资风险的管理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应该如何制定保险投资策略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如何选择证券组合可以降低非系统性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利率免疫技术？保险公司如何运用利率免疫技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术防范债券投资的利率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一节  保险投资的资金来源与性质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保险投资资金的来源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自有资金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资本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积金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负债资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非寿险未到期责任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赔款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责任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储金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存入分保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长期责任准备金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投资资金的性质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负债性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稳定性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性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二节  保险投资的条件约束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投资的一般条件约束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安全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收益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流动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投资的特殊条件约束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称性条件约束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替代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散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转移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平衡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第三节   保险投资的形式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金融资产类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债权类投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债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贷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股权类投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cp:keywords/>
  <dc:language>en-US</dc:language>
  <cp:lastModifiedBy>苏菲的小猫</cp:lastModifiedBy>
  <dcterms:modified xsi:type="dcterms:W3CDTF">2020-05-25T05:50:13Z</dcterms:modified>
  <cp:revision>23</cp:revision>
  <dc:subject/>
  <dc:title>没有幻灯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4</vt:lpwstr>
  </property>
</Properties>
</file>