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4F12-E053-4CE1-9561-2D514195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4952-8327-482F-A354-AB72E7FD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047-A368-4104-BC3B-1543086C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33D-567B-4F3E-92E7-4375B255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E13D-A012-4FA3-A9AF-C8F91917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2FF0-0129-4F7B-BC01-3CA89D16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C1E6-FE7D-437A-9F8D-9504BF25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4045-05CA-49C3-8792-3873508C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6A06-C579-4733-8852-228A1F00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D798-E2D9-4FEE-B582-BE5DDD17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AB84-4B2E-4311-8387-C5534A69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4DFA-F92C-4167-BC97-0901D78D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D410-A2BB-4A40-978D-64BE6704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544D-52F0-4D75-BF54-71FCA3EC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6555-C77A-485D-94C2-DD9015D4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754B-25D7-4F09-90A6-30597B7F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6D98-A16E-4E89-97D2-57846812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E80-079D-45BB-8491-558FE675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FA9-DEEC-46EF-A40F-8283D6BF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1BA-F4EA-4F9C-BAE2-B3A95E63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54E1-C906-4F1F-9AEB-9874FC8F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9AF-FEC0-4842-B361-B840F533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0C19-4A80-4C64-8A79-B5A82AF7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EF4-1212-4E1E-9E5E-5A82D531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5238-AB80-4C28-9131-72D4534C9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88FA-7AC4-46D6-91FD-0DFA9022753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-8128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三章  保险营销管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传统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代理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代理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代理人的业务范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代理人的法律特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保险代理人营销的优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经纪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经纪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经纪人的职业操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经纪人的业务运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创新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电话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电话营销的优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电话营销的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互联网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互联网营销的优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大大降低了展业成本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增加了新的销售机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利于提高保险服务质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网络营销的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法律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银行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银行保险的产生和发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银行保险的合作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作协议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资公司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建立金融服务集团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金融服务集团的经营模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大数据和互联网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中的大数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中大数据技术是基于对海量数据进行分析，从不同维度和深度挖掘保险应用特性，进而优化保险价值链条的各个环节。其中精准营销和精准定价以及反欺诈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大数据在精准营销中的作用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精准获取新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持续转化准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减少退保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互联网保险的定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广义定义：互联网保险业务是指保险机构依托互联网和移动通信等技术，通过自营网络平台、第三方网络平台等开展保险业务、提供保险服务的保险经营活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狭义定义：互联网保险是指基于互联网、大数据、云数据等信息技术手段，从保险产品设计、风险管理和保险信息咨询到投保、核保、保全、理赔和给付等保险全过程互联网化的保险经营活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互联网保险参与的主体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开展互联网保险业务的传统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互联网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电子商务平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中介平台。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一节   保险营销的概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营销  保险代理人  保险经纪人   互联网营销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营销的宏观环境因素和微观环境因素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纪人的业务运作主要包括哪些方面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新险种开发的主要步骤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新险种开发时如何优化险种组合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电话营销？它有什么优缺点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哪些优点？存在哪些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的合作方式有哪些？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什么是互联网保险（狭义）？我国互联网保险参与主体有哪些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营销的概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营销的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P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产品、价格、分销渠道和促销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营销的发展阶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产品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销售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市场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营销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宏观环境分析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微观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投保人行为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节    保险新险种的开发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、保险新险种的界定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新险种是指整体险种或其中的一部分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所创新或改革，能够给保险消费者带来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利益和满足的险种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二、保险新险种开发的步骤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险种开发的程序包括构思的形成、构思的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选、市场分析、开发设计、试销过程和商品化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步骤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三、保险新险种开发的策略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目标市场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产品组合策略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险种质量优化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29:14Z</dcterms:modified>
  <cp:revision>24</cp:revision>
  <dc:subject/>
  <dc:title>没有幻灯片标题</dc:title>
</cp:coreProperties>
</file>